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BF89EEF-0EBB-43CB-B365-6C597A504F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EE3A4E5-7A4E-4A3D-BD78-9A480D17A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E855F2F-1E92-4198-96FF-BB0F71BE29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794044C-2756-44C2-B87F-94D3C564DF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690F58-E23B-4675-98BD-371290F163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3C581E-1C6D-4025-88DB-913BE4F2DB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A1A9AA-9857-442F-8F39-D410139104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C3E8F7-C513-4E16-8DB7-41424BB3AC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968445-4427-4868-9C0C-67EAA3C2B7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BC9776-C328-42BE-AEBA-C2164FBB16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A16B7-03E4-4C2E-A947-8540FAF82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E1F8374-4E0D-47AB-AD2A-0CC060406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AC8AC-6C92-4EEC-A216-DE03C1D1A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FBB3E-245F-488C-B1EE-B778E9076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25C1B-72A3-44D0-B525-B65B5AEFD1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499DDC-5D57-4900-B41F-9924D1C9C7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3C086A-C860-460E-8924-C8A076D3CF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E4DC181-348D-49FC-BE87-3323B7D8B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FBFDEB9-3338-4C19-B6B3-13C0ABBD8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974C744-5456-43EB-843D-6E25A5751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0AB6240-F3F5-4EAB-9C24-D374EFE95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C8EC74A-AC7A-4C7C-B758-9D50C755A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8903579-1D5F-4DB3-9697-A2023EFC3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1AF7146-5344-485C-A3AE-005152FAE3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EFC13-DD8A-4233-90A5-910E09D28EA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4F29E-C8B7-443C-BDCD-782D290990D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218960"/>
            <a:ext cx="7772400" cy="19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COMPATIBILITY OF CONSEVATION AND MANAGEMENT MEASURES</a:t>
            </a:r>
            <a:endParaRPr b="1" lang="en-US" sz="4000" spc="-1" strike="noStrike">
              <a:solidFill>
                <a:srgbClr val="e5e5ff"/>
              </a:solidFill>
              <a:latin typeface="Garamond"/>
            </a:endParaRPr>
          </a:p>
        </p:txBody>
      </p:sp>
      <p:sp>
        <p:nvSpPr>
          <p:cNvPr id="101"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Martin Tsamenyi</a:t>
            </a:r>
            <a:endParaRPr b="0" lang="en-US" sz="2800" spc="-1" strike="noStrike">
              <a:solidFill>
                <a:srgbClr val="ffffff"/>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orkshop of Stakeholders in WCPO Tuna Fisheries, Rydges Lakeside Hotel, Canberr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ong term conservation and sustainable use of  straddling fish stocks and highly migratory fish stocks through effective implementation of the UN Convention on the Law of the Sea [Art 2]</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Framework for cooperation among coastal States and States whose nationals fish for straddling fish stocks and highly migratory fish stocks in the high seas</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Assumptions:</a:t>
            </a:r>
            <a:endParaRPr b="0" lang="en-US" sz="40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most coastal States were taking appropriate management measures for their EEZs</a:t>
            </a:r>
            <a:endParaRPr b="0" lang="en-US" sz="32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the key problem was lack of management of the high seas</a:t>
            </a:r>
            <a:endParaRPr b="0" lang="en-US" sz="3200" spc="-1" strike="noStrike">
              <a:solidFill>
                <a:srgbClr val="ffffff"/>
              </a:solidFill>
              <a:latin typeface="Garamond"/>
            </a:endParaRPr>
          </a:p>
          <a:p>
            <a:pPr lvl="2" marL="1143000" indent="-2286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The Unfinished business”.</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The Evidence?</a:t>
            </a: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Unless otherwise provided, this Agreement applies to the conservation and management of straddling fish stocks and highly migratory fish stocks beyond areas under national jurisdiction, except that articles 6 and 7 apply also to the conservation and management of such stocks within areas under national jurisdiction, subject to the different legal regimes that apply within areas under national jurisdiction and in areas beyond national jurisdiction as provided for in the Convention” [Art. 3(1)</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ink between the EEZ and the high seas established through two important principle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general principles of conservation [Art. 5]</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In order to conserve and manage straddling fish stocks and highly migratory fish stocks, coastal States  and States fishing on the high seas  shall, in giving effect to their duty to cooperate in accordance with the Convention [i.e. Law of the Sea Convention]”</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ication of compatible measures [Art. 7: Compatibility</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the straddling fish stocks and highly migratory fish stocks in their entirety. To this end, coastal States and States fishing on the high seas have a duty to cooperate for the purpose of achieving compatible measures in respect of such stocks” [UN Fish Stocks Agreement Art. 7(2)]</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Convention &amp; Compatibility</a:t>
            </a:r>
            <a:endParaRPr b="1" lang="en-US" sz="4000" spc="-1" strike="noStrike">
              <a:solidFill>
                <a:srgbClr val="e5e5ff"/>
              </a:solidFill>
              <a:latin typeface="Garamond"/>
            </a:endParaRPr>
          </a:p>
        </p:txBody>
      </p:sp>
      <p:sp>
        <p:nvSpPr>
          <p:cNvPr id="131"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rt. 8 of WCPF Convention adopts Art. 7 of UN Fish Stocks with some modification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nservation of stocks in their entirety is to be achieved through the application of compatible measures in the EEZ and on the high seas</a:t>
            </a:r>
            <a:endParaRPr b="0" lang="en-US" sz="2800" spc="-1" strike="noStrike">
              <a:solidFill>
                <a:srgbClr val="ffffff"/>
              </a:solidFill>
              <a:latin typeface="Garamond"/>
            </a:endParaRPr>
          </a:p>
          <a:p>
            <a:pPr lvl="1" marL="690840" indent="-26568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4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highly migratory fish stocks in their entirety. To this end, the members of the Commission have a duty to cooperate for the purpose of achieving compatible measures in respect of such stocks” [Art 8(1)]</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at does ‘Compatibility” Mean?</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600" spc="-1" strike="noStrike">
                <a:solidFill>
                  <a:srgbClr val="ffffff"/>
                </a:solidFill>
                <a:latin typeface="Garamond"/>
              </a:rPr>
              <a:t>Compatibility” not defined in the WCPF Convention</a:t>
            </a:r>
            <a:endParaRPr b="0" lang="en-US" sz="3600" spc="-1" strike="noStrike">
              <a:solidFill>
                <a:srgbClr val="ffffff"/>
              </a:solidFill>
              <a:latin typeface="Garamond"/>
            </a:endParaRPr>
          </a:p>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Dictionary definition of “compatible”</a:t>
            </a:r>
            <a:endParaRPr b="0" lang="en-US" sz="36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Capable of living together harmoniously or getting along well together with”</a:t>
            </a:r>
            <a:endParaRPr b="0" lang="en-US" sz="32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In agreement; congruent with”</a:t>
            </a:r>
            <a:endParaRPr b="0" lang="en-US" sz="3200" spc="-1" strike="noStrike">
              <a:solidFill>
                <a:srgbClr val="ffffff"/>
              </a:solidFill>
              <a:latin typeface="Garamond"/>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35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reas of departure</a:t>
            </a:r>
            <a:endParaRPr b="0" lang="en-US" sz="3200" spc="-1" strike="noStrike">
              <a:solidFill>
                <a:srgbClr val="ffffff"/>
              </a:solidFill>
              <a:latin typeface="Garamond"/>
            </a:endParaRPr>
          </a:p>
          <a:p>
            <a:pPr lvl="1" marL="713160" indent="-2743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The coastal State shall ensure that the measures adopted and applied by it to highly migratory fish stocks within areas under its national jurisdiction do not undermine the effectiveness of measures adopted by the Commission under this Convention in respect of the same stocks” [ WCPF  Convention Art. 8(3)]</a:t>
            </a:r>
            <a:endParaRPr b="0" lang="en-US" sz="28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Reverse compatibilit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7" name="PlaceHolder 2"/>
          <p:cNvSpPr>
            <a:spLocks noGrp="1"/>
          </p:cNvSpPr>
          <p:nvPr>
            <p:ph/>
          </p:nvPr>
        </p:nvSpPr>
        <p:spPr>
          <a:xfrm>
            <a:off x="0" y="1600200"/>
            <a:ext cx="4495680" cy="4525920"/>
          </a:xfrm>
          <a:prstGeom prst="rect">
            <a:avLst/>
          </a:prstGeom>
          <a:noFill/>
          <a:ln w="0">
            <a:noFill/>
          </a:ln>
        </p:spPr>
        <p:txBody>
          <a:bodyPr lIns="90000" rIns="90000" tIns="46800" bIns="46800" anchor="t">
            <a:normAutofit fontScale="89000"/>
          </a:bodyPr>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pecial provisions for high seas enclaves</a:t>
            </a:r>
            <a:endParaRPr b="0" lang="en-US" sz="1800" spc="-1" strike="noStrike">
              <a:solidFill>
                <a:srgbClr val="ffffff"/>
              </a:solidFill>
              <a:latin typeface="Garamond"/>
            </a:endParaRPr>
          </a:p>
          <a:p>
            <a:pPr lvl="1" marL="660960" indent="-2541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a:t>
            </a:r>
            <a:r>
              <a:rPr b="0" lang="en-AU" sz="1800" spc="-1" strike="noStrike">
                <a:solidFill>
                  <a:srgbClr val="ffffff"/>
                </a:solidFill>
                <a:latin typeface="Garamond"/>
              </a:rPr>
              <a:t>Where there are areas of high seas in the Convention Area entirely surrounded by the exclusive economic zones of members of the Commission, the Commission shall, in giving effect to this article, pay special attention to ensuring compatibility between conservation and management measures established for such high seas areas and those established in respect of the same stocks in accordance with article 61 of the 1982 Convention by the surrounding coastal States in areas under national jurisdiction” [Art 8(4)].</a:t>
            </a:r>
            <a:endParaRPr b="0" lang="en-US" sz="1800" spc="-1" strike="noStrike">
              <a:solidFill>
                <a:srgbClr val="ffffff"/>
              </a:solidFill>
              <a:latin typeface="Garamond"/>
            </a:endParaRPr>
          </a:p>
        </p:txBody>
      </p:sp>
      <p:pic>
        <p:nvPicPr>
          <p:cNvPr id="138" name="" descr=""/>
          <p:cNvPicPr/>
          <p:nvPr/>
        </p:nvPicPr>
        <p:blipFill>
          <a:blip r:embed="rId1"/>
          <a:stretch/>
        </p:blipFill>
        <p:spPr>
          <a:xfrm>
            <a:off x="4648320" y="1981080"/>
            <a:ext cx="4038480" cy="358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hat does this mean in practice?</a:t>
            </a:r>
            <a:br>
              <a:rPr sz="4000"/>
            </a:br>
            <a:endParaRPr b="1" lang="en-US" sz="40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sures established  for the high seas and those adopted in the  EEZs </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identical</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different</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If different, the measures  must  have equivalent effect</a:t>
            </a:r>
            <a:endParaRPr b="0" lang="en-US" sz="32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ing compatible measures becomes more questions of </a:t>
            </a:r>
            <a:r>
              <a:rPr b="1" lang="en-AU" sz="2800" spc="-1" strike="noStrike">
                <a:solidFill>
                  <a:srgbClr val="ffffff"/>
                </a:solidFill>
                <a:latin typeface="Garamond"/>
              </a:rPr>
              <a:t>PPROCESS and STRATEGY </a:t>
            </a:r>
            <a:r>
              <a:rPr b="0" lang="en-AU" sz="2800" spc="-1" strike="noStrike">
                <a:solidFill>
                  <a:srgbClr val="ffffff"/>
                </a:solidFill>
                <a:latin typeface="Garamond"/>
              </a:rPr>
              <a:t>within the Commission rather than legal interpretation. </a:t>
            </a:r>
            <a:endParaRPr b="0" lang="en-US" sz="2800" spc="-1" strike="noStrike">
              <a:solidFill>
                <a:srgbClr val="ffffff"/>
              </a:solidFill>
              <a:latin typeface="Garamond"/>
            </a:endParaRPr>
          </a:p>
          <a:p>
            <a:pPr marL="332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PRESENTATION SUMMARY</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Historical Background to the concept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UN Fish Stocks Agreemen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CPF Convention Framewor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ning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ying  “compatibility” in practi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Legal Requirements for compatibility</a:t>
            </a: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ll members of the Commission have a duty to cooperate in establishing compatible measures in the Convention Area for both the high seas and the EEZs.</a:t>
            </a:r>
            <a:endParaRPr b="0" lang="en-US" sz="3200" spc="-1" strike="noStrike">
              <a:solidFill>
                <a:srgbClr val="ffffff"/>
              </a:solidFill>
              <a:latin typeface="Garamond"/>
            </a:endParaRPr>
          </a:p>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egal duty to cooperate is </a:t>
            </a:r>
            <a:r>
              <a:rPr b="1" lang="en-AU" sz="3200" spc="-1" strike="noStrike">
                <a:solidFill>
                  <a:srgbClr val="ffffff"/>
                </a:solidFill>
                <a:latin typeface="Garamond"/>
              </a:rPr>
              <a:t>NOT</a:t>
            </a:r>
            <a:r>
              <a:rPr b="0" lang="en-AU" sz="3200" spc="-1" strike="noStrike">
                <a:solidFill>
                  <a:srgbClr val="ffffff"/>
                </a:solidFill>
                <a:latin typeface="Garamond"/>
              </a:rPr>
              <a:t>  discharged if members of the Commission do not establish compatible measures for the high seas and the EEZ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therwise they become “Non-cooperating” Members</a:t>
            </a:r>
            <a:endParaRPr b="0" lang="en-US" sz="2800" spc="-1" strike="noStrike">
              <a:solidFill>
                <a:srgbClr val="ffffff"/>
              </a:solidFill>
              <a:latin typeface="Garamond"/>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13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44"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uthorities in the Convention Area:</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Coastal States</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Have sovereign rights in their EEZs in accordance with the Law of the Sea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Sovereign rights preserved by the UN Fish Stocks Agreement and the WCPF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an adopt more stringent measures in its EEZ </a:t>
            </a:r>
            <a:endParaRPr b="0" lang="en-US" sz="2800" spc="-1" strike="noStrike">
              <a:solidFill>
                <a:srgbClr val="ffffff"/>
              </a:solidFill>
              <a:latin typeface="Garamond"/>
            </a:endParaRPr>
          </a:p>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The Commission</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ade up of coastal States and all States whose nationals fish on the high seas in the Convention Area</a:t>
            </a:r>
            <a:endParaRPr b="0" lang="en-US" sz="3200" spc="-1" strike="noStrike">
              <a:solidFill>
                <a:srgbClr val="ffffff"/>
              </a:solidFill>
              <a:latin typeface="Garamond"/>
            </a:endParaRPr>
          </a:p>
          <a:p>
            <a:pPr marL="305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Functions of the Commission</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Functions of the Commission specified in Article 10 the WCPF Conven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functions are to be performed “without prejudice” to the sovereign rights of coastal States in their EEZs</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Implica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Establishment of the Commission does not do away with coastal State authority in the EEZ</a:t>
            </a:r>
            <a:endParaRPr b="0" lang="en-US" sz="24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can agree to establish measures applicable to EEZs </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reement by coastal States in the Commission will be consistent with their sovereign rights in Art 61 of the Law of the Sea Convention</a:t>
            </a:r>
            <a:endParaRPr b="0" lang="en-US" sz="2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SO WHO DOES WHAT AND WHERE IN TERMS OF COMPATIBILITY?</a:t>
            </a:r>
            <a:br>
              <a:rPr sz="2400"/>
            </a:br>
            <a:endParaRPr b="1" lang="en-US" sz="28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scenarios under WCPF Convention Art. 8 that require consideration in the process:</a:t>
            </a:r>
            <a:endParaRPr b="0" lang="en-US" sz="3200" spc="-1" strike="noStrike">
              <a:solidFill>
                <a:srgbClr val="ffffff"/>
              </a:solidFill>
              <a:latin typeface="Garamond"/>
            </a:endParaRPr>
          </a:p>
          <a:p>
            <a:pPr lvl="1" marL="676080" indent="-25992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 at the time the Commission is establishing measures for the high seas</a:t>
            </a:r>
            <a:endParaRPr b="0" lang="en-US" sz="3200" spc="-1" strike="noStrike">
              <a:solidFill>
                <a:srgbClr val="ffffff"/>
              </a:solidFill>
              <a:latin typeface="Garamond"/>
            </a:endParaRPr>
          </a:p>
          <a:p>
            <a:pPr lvl="1" marL="676080" indent="-2599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nd there are no measures for the high seas</a:t>
            </a:r>
            <a:endParaRPr b="0" lang="en-US" sz="2800" spc="-1" strike="noStrike">
              <a:solidFill>
                <a:srgbClr val="ffffff"/>
              </a:solidFill>
              <a:latin typeface="Garamond"/>
            </a:endParaRPr>
          </a:p>
          <a:p>
            <a:pPr lvl="1" marL="67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0" name="PlaceHolder 2"/>
          <p:cNvSpPr>
            <a:spLocks noGrp="1"/>
          </p:cNvSpPr>
          <p:nvPr>
            <p:ph/>
          </p:nvPr>
        </p:nvSpPr>
        <p:spPr>
          <a:xfrm>
            <a:off x="609480" y="129528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a:t>
            </a:r>
            <a:endParaRPr b="0" lang="en-US" sz="32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the EEZ measures to the high seas</a:t>
            </a:r>
            <a:endParaRPr b="0" lang="en-US" sz="2800" spc="-1" strike="noStrike">
              <a:solidFill>
                <a:srgbClr val="ffffff"/>
              </a:solidFill>
              <a:latin typeface="Garamond"/>
            </a:endParaRPr>
          </a:p>
          <a:p>
            <a:pPr lvl="2" marL="1108440" indent="-2214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become  Commission measures by adoption</a:t>
            </a:r>
            <a:endParaRPr b="0" lang="en-US" sz="24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equivalent measures for the high sea only</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supplementary measures for both the high seas and the EEZ</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2"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t>
            </a:r>
            <a:endParaRPr b="0" lang="en-US" sz="2800" spc="-1" strike="noStrike">
              <a:solidFill>
                <a:srgbClr val="ffffff"/>
              </a:solidFill>
              <a:latin typeface="Garamond"/>
            </a:endParaRPr>
          </a:p>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nservation and management measures applicable to the high seas and the EEZ default to the Commission</a:t>
            </a:r>
            <a:endParaRPr b="0" lang="en-US" sz="24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as a whole monitors the  implementation of measures on the high seas</a:t>
            </a:r>
            <a:endParaRPr b="0" lang="en-US" sz="2400" spc="-1" strike="noStrike">
              <a:solidFill>
                <a:srgbClr val="ffffff"/>
              </a:solidFill>
              <a:latin typeface="Garamond"/>
            </a:endParaRPr>
          </a:p>
          <a:p>
            <a:pPr lvl="1" marL="646200" indent="-2484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astal State  implements measures in its EEZ </a:t>
            </a:r>
            <a:endParaRPr b="0" lang="en-US" sz="28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monitors implementation of the measures by the coastal State through the reporting requirements</a:t>
            </a:r>
            <a:endParaRPr b="0" lang="en-US" sz="24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astal Sates can later adopt more stringent measures for its EEZ and report to the Commission in accordance with its reporting obligation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Factors to take into account by the Commission in establishing compatible measures under Art 8</a:t>
            </a:r>
            <a:endParaRPr b="1" lang="en-US" sz="2800" spc="-1" strike="noStrike">
              <a:solidFill>
                <a:srgbClr val="e5e5ff"/>
              </a:solidFill>
              <a:latin typeface="Garamond"/>
            </a:endParaRPr>
          </a:p>
        </p:txBody>
      </p:sp>
      <p:sp>
        <p:nvSpPr>
          <p:cNvPr id="154" name="PlaceHolder 2"/>
          <p:cNvSpPr>
            <a:spLocks noGrp="1"/>
          </p:cNvSpPr>
          <p:nvPr>
            <p:ph/>
          </p:nvPr>
        </p:nvSpPr>
        <p:spPr>
          <a:xfrm>
            <a:off x="685800" y="1295280"/>
            <a:ext cx="8229600" cy="4525920"/>
          </a:xfrm>
          <a:prstGeom prst="rect">
            <a:avLst/>
          </a:prstGeom>
          <a:noFill/>
          <a:ln w="0">
            <a:noFill/>
          </a:ln>
        </p:spPr>
        <p:txBody>
          <a:bodyPr lIns="90000" rIns="90000" tIns="46800" bIns="46800" anchor="t">
            <a:normAutofit fontScale="90000"/>
          </a:bodyPr>
          <a:p>
            <a:pPr lvl="1" marL="668520" indent="-25704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rt 8 requires a number of factors to be taken into account by the Commission in establishing compatible measures in the Convention Area:</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 take into account the biological unity and other biological characteristics of the stocks and the relationships between the distribution of the stocks, the fisheries and the geographical particularities of the region concerned, including the extent to which the stocks occur and are fished in areas under national jurisdiction;</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6" name="PlaceHolder 2"/>
          <p:cNvSpPr>
            <a:spLocks noGrp="1"/>
          </p:cNvSpPr>
          <p:nvPr>
            <p:ph/>
          </p:nvPr>
        </p:nvSpPr>
        <p:spPr>
          <a:xfrm>
            <a:off x="533520" y="609480"/>
            <a:ext cx="8229600" cy="4525920"/>
          </a:xfrm>
          <a:prstGeom prst="rect">
            <a:avLst/>
          </a:prstGeom>
          <a:noFill/>
          <a:ln w="0">
            <a:noFill/>
          </a:ln>
        </p:spPr>
        <p:txBody>
          <a:bodyPr lIns="90000" rIns="90000" tIns="46800" bIns="46800" anchor="t">
            <a:normAutofit fontScale="79000"/>
          </a:bodyPr>
          <a:p>
            <a:pPr lvl="1" marL="58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 </a:t>
            </a:r>
            <a:endParaRPr b="0" lang="en-US" sz="24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800" spc="-1" strike="noStrike">
                <a:solidFill>
                  <a:srgbClr val="ffffff"/>
                </a:solidFill>
                <a:latin typeface="Garamond"/>
              </a:rPr>
              <a:t>b) take into accou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i) the conservation and management measures adopted and applied in accordance with article 61 of the 1982 Convention in respect of the same stocks by coastal States within areas under national jurisdiction and ensure that measures established in respect of such stocks for the Convention Area as a whole do not undermine the effectiveness of such measures;</a:t>
            </a:r>
            <a:br>
              <a:rPr sz="2800"/>
            </a:br>
            <a:r>
              <a:rPr b="0" lang="en-AU" sz="2800" spc="-1" strike="noStrike">
                <a:solidFill>
                  <a:srgbClr val="ffffff"/>
                </a:solidFill>
                <a:latin typeface="Garamond"/>
              </a:rPr>
              <a:t>(ii) previously agreed measures established and applied in respect of the same stocks for the high seas which form part of the Convention Area by relevant coastal States and States fishing on the high seas in accordance with the 1982 Convention and the Agreeme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3000"/>
          </a:bodyPr>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 </a:t>
            </a:r>
            <a:r>
              <a:rPr b="0" lang="en-AU" sz="1800" spc="-1" strike="noStrike">
                <a:solidFill>
                  <a:srgbClr val="ffffff"/>
                </a:solidFill>
                <a:latin typeface="Garamond"/>
              </a:rPr>
              <a:t>(</a:t>
            </a:r>
            <a:r>
              <a:rPr b="0" lang="en-AU" sz="3200" spc="-1" strike="noStrike">
                <a:solidFill>
                  <a:srgbClr val="ffffff"/>
                </a:solidFill>
                <a:latin typeface="Garamond"/>
              </a:rPr>
              <a:t>c) take into account previously agreed measures established and applied in accordance with the 1982 Convention and the Agreement in respect of the same stocks by a subregional or regional fisheries management organization or arrangement;</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d) take into account the respective dependence of the coastal States and the States fishing on the high seas on the stocks concerned; and</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e) ensure that such measures do not result in harmful impact on the living marine resources as a whol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mpatibility applies to both the EEZ and the high seas in the Convention Area</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Duty on all members of the Commission to cooperate in the Commission to establish compatible measures</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required in the Commission to achieve compatibility</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need to take into account the factors listed in Article 8 of the WCPF Convention and balance the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Historical Background</a:t>
            </a:r>
            <a:endParaRPr b="1" lang="en-US" sz="4400" spc="-1" strike="noStrike">
              <a:solidFill>
                <a:srgbClr val="e5e5ff"/>
              </a:solidFill>
              <a:latin typeface="Garamond"/>
            </a:endParaRPr>
          </a:p>
        </p:txBody>
      </p:sp>
      <p:sp>
        <p:nvSpPr>
          <p:cNvPr id="105"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ull sovereignty in territorial seas and archipelagic water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Sovereign rights in the EEZ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reedom of high seas fishing</a:t>
            </a:r>
            <a:endParaRPr b="0" lang="en-US" sz="2400" spc="-1" strike="noStrike">
              <a:solidFill>
                <a:srgbClr val="ffffff"/>
              </a:solidFill>
              <a:latin typeface="Garamond"/>
            </a:endParaRPr>
          </a:p>
        </p:txBody>
      </p:sp>
      <p:pic>
        <p:nvPicPr>
          <p:cNvPr id="106" name="" descr=""/>
          <p:cNvPicPr/>
          <p:nvPr/>
        </p:nvPicPr>
        <p:blipFill>
          <a:blip r:embed="rId1">
            <a:lum bright="26000"/>
          </a:blip>
          <a:stretch/>
        </p:blipFill>
        <p:spPr>
          <a:xfrm>
            <a:off x="457200" y="1903320"/>
            <a:ext cx="4038480" cy="3919680"/>
          </a:xfrm>
          <a:prstGeom prst="rect">
            <a:avLst/>
          </a:prstGeom>
          <a:ln w="12600">
            <a:solidFill>
              <a:srgbClr val="ffffff"/>
            </a:solidFill>
            <a:miter/>
          </a:ln>
          <a:effectLst>
            <a:outerShdw dist="36147" dir="2700000" blurRad="0" rotWithShape="0">
              <a:srgbClr val="000514"/>
            </a:outerShdw>
          </a:effectLst>
        </p:spPr>
      </p:pic>
      <p:pic>
        <p:nvPicPr>
          <p:cNvPr id="107" name="" descr=""/>
          <p:cNvPicPr/>
          <p:nvPr/>
        </p:nvPicPr>
        <p:blipFill>
          <a:blip r:embed="rId2"/>
          <a:stretch/>
        </p:blipFill>
        <p:spPr>
          <a:xfrm>
            <a:off x="4724280" y="3886200"/>
            <a:ext cx="441972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Garamond"/>
              </a:rPr>
              <a:t>The EEZ</a:t>
            </a:r>
            <a:endParaRPr b="1" lang="en-US" sz="48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astal State sovereign rights to manage the living resources in the EEZ (Arts. 61 &amp; 62)</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and management measures</a:t>
            </a:r>
            <a:endParaRPr b="0" lang="en-US" sz="2400" spc="-1" strike="noStrike">
              <a:solidFill>
                <a:srgbClr val="ffffff"/>
              </a:solidFill>
              <a:latin typeface="Garamond"/>
            </a:endParaRPr>
          </a:p>
          <a:p>
            <a:pPr lvl="3" marL="1600200" indent="-22860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Qualified by social, economic and environmental factors</a:t>
            </a:r>
            <a:endParaRPr b="0" lang="en-US" sz="20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of dependent and associated specie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etermination of TAC</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Determination of harvesting capacity</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llocation of surplus to other States through access agreement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CS measures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e5e5ff"/>
                </a:solidFill>
                <a:latin typeface="Arial"/>
              </a:rPr>
              <a:t>The EEZ </a:t>
            </a:r>
            <a:endParaRPr b="1" lang="en-US" sz="5400" spc="-1" strike="noStrike">
              <a:solidFill>
                <a:srgbClr val="e5e5ff"/>
              </a:solidFill>
              <a:latin typeface="Garamond"/>
            </a:endParaRPr>
          </a:p>
        </p:txBody>
      </p:sp>
      <p:sp>
        <p:nvSpPr>
          <p:cNvPr id="111"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in adjacent high seas to agree on measures necessary for the conservation of straddling fish stocks in the adjacent high sea area [Art. 63(2)]</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on the high seas to ensure conservation and optimum utilisation of highly migratory species throughout the region [Art.64]</a:t>
            </a:r>
            <a:endParaRPr b="0" lang="en-US" sz="2800" spc="-1" strike="noStrike">
              <a:solidFill>
                <a:srgbClr val="ffffff"/>
              </a:solidFill>
              <a:latin typeface="Garamond"/>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High Sea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reedom of Fishing on the high seas [Arts. 87 &amp; 116]</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ubject to</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to cooperate with other States  to take measures for the conservation of the living resources on the high sea [Art. 118 &amp; 119]</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not to undermine the sovereign rights of coastal States in their EEZs [Art 116(b)]</a:t>
            </a:r>
            <a:endParaRPr b="0" lang="en-US" sz="28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1990s Concern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Lack of effective framework to manage high seas fisheries</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High seas fishing undermining integrity of sovereign  rights in the EEZ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enda 21 (Chapter 17)</a:t>
            </a:r>
            <a:endParaRPr b="0" lang="en-US" sz="2800" spc="-1" strike="noStrike">
              <a:solidFill>
                <a:srgbClr val="ffffff"/>
              </a:solidFill>
              <a:latin typeface="Garamond"/>
            </a:endParaRPr>
          </a:p>
          <a:p>
            <a:pPr lvl="1" marL="631440" indent="-2426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17.45. … management of high seas fisheries, including the adoption, monitoring and enforcement of effective conservation measures, is inadequate in many areas and some resources are overutilized. There are problems of unregulated fishing, overcapitalization, excessive fleet size, vessel reflagging to escape controls, insufficiently selective gear, unreliable databases and lack of sufficient cooperation between Stat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17.49. States should take effective action, including bilateral and multilateral cooperation…In particular, </a:t>
            </a:r>
            <a:endParaRPr b="0" lang="en-US" sz="3600" spc="-1" strike="noStrike">
              <a:solidFill>
                <a:srgbClr val="ffffff"/>
              </a:solidFill>
              <a:latin typeface="Garamond"/>
            </a:endParaRPr>
          </a:p>
          <a:p>
            <a:pPr lvl="1" marL="623880" indent="-2397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e) States should convene, as soon as possible, an intergovernmental conference under United Nations auspices, taking into account relevant activities at the subregional, regional and global levels, with a view to promoting effective implementation of the provisions of the United Nations Convention on the Law of the Sea on straddling fish stocks and highly migratory fish stock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6T21:05:28Z</dcterms:created>
  <dc:creator>Andrew Wright</dc:creator>
  <dc:description/>
  <dc:language>en-US</dc:language>
  <cp:lastModifiedBy>tsamenyi</cp:lastModifiedBy>
  <dcterms:modified xsi:type="dcterms:W3CDTF">2008-04-01T04:07:35Z</dcterms:modified>
  <cp:revision>168</cp:revision>
  <dc:subject/>
  <dc:title>COMMISSION FOR THE CONSERVATION AND MANAGEMENT OF HIGHLY MIGRATORY FISH STOCKS IN THE WESTERN AND CENTRAL PACIFIC OCEAN   FIRST REGULAR SESSION OF THE TECHNICAL AND COMPLIANCE COMMITTEE Pohnpei, Federated States Of Micronesia, 5-9 December 2005  [Document symbol]   [DOCUMENT TITLE]</dc:title>
</cp:coreProperties>
</file>