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2084-E9E2-41C3-9138-D824583F8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BC53-E9AF-4E19-A0A9-88B212FB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B680-4791-4914-AF30-F524B27C0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E71F-62C5-457D-8992-18B33A0E9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93EA-35C9-41B2-BB5F-863F572E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7D8D-01B1-436F-A792-D6D0DD3E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3A7B-1634-49D3-B848-BDE1F775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F2D4-C9FB-48A1-A12E-15ACD68F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DFDF-7E19-4BB5-96E4-85A73F1B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F568-CA0F-43B8-8028-29B136A4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719B-0CDD-472D-842B-BDB3CF3A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E44A-B855-48B2-97A5-E9538508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8F0C-E38B-447D-B912-236E2E40F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ACIFIC ISLAND COUNTRIES/PNG VIEW ON BIGEYE &amp; YELLOWFIN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HE SI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ience clearly sh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 of the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s to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op overfishing of big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longlining on adult 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the impact of FADs on juven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intain the yellowfin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ain overall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juvenile catches especially in Indonesia &amp; Philipp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lso plan to make optimum use of the albacore and skipjack st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 GU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A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FAD 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100%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in good faith/didn’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complex, too many interests, not enough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A Members/PICs have agreed to apply in their EEZs from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onth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uture, PNA Members/PICs, not the Commission, will adopt and apply measures for their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allow the Commission to focus on its 2 main job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ing overall stock status, limits and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ing compatible measures in the high seas including limits to fishing effort and M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UPPLEMENTARY BIGEYE &amp; YELLOWFIN CMM AT WCPFC5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tible High Seas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high seas purse seine effort limit – closure after X days limit, monitored by VMS (??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seas catch ret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high seas FAD clo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% high seas PS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losure of 3 high seas pockets?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limit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zone-based tropical longline management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COMPATIBLE HIGH SEAS MEASURES, CLOSE THE HIGH SEAS UNTIL THER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NG In Zone Mea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ddition to management plans, MTCs, PNG has introduced new in zone measur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d Morgardo Square, Archipelagic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ing 50 nautical mile corridor PNG/Indonesia northern b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D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% FADS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CIFIC ISLAND COUNTRIES WILL NOT AGREE 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capacity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time/area closures 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EYOND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 move beyond ad hoc piecemea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to longer term strategic measures based on reference points and TACs/TA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58:00Z</dcterms:created>
  <dc:creator>Les</dc:creator>
  <dc:description/>
  <dc:language>en-US</dc:language>
  <cp:lastModifiedBy>Justin Ilakini</cp:lastModifiedBy>
  <dcterms:modified xsi:type="dcterms:W3CDTF">2008-03-31T23:08:46Z</dcterms:modified>
  <cp:revision>26</cp:revision>
  <dc:subject/>
  <dc:title>PACIFIC ISLAND COUNTRIES VIEW ON BIGEYE &amp; YELLOWFIN ISSUES</dc:title>
</cp:coreProperties>
</file>