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68D1-68F5-4E4C-8FFF-727FD922D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49D3-440E-4C51-966A-5C3B35B1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23E6-673C-4595-8DA5-C9000DD07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5AC7-8F17-497E-9ECF-D0449A504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9BFD-6B1C-47E9-9818-24B55ECC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5A81-AE59-4FE4-A543-A9C2C8C6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E6A3-5B88-4B4C-AB02-01B34003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D8D9-6B12-405A-B3D1-0F8BC1A9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2C93-F513-4F87-879A-FB7D8838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6495-FBA6-4253-9545-3F364ADA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0FFF-D43F-4D3E-B591-CEA91ED0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31EC-D7EA-49C0-BA91-CFCF96B4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F952-01AD-4909-AA99-EECCDBECC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shing Patterns of Fleets and EEZ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ic Fisheries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ariat of the Pacific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se seine se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se seine vessel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line effort, bigeye catch, CP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1339920"/>
            <a:ext cx="70754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19320" y="1336680"/>
            <a:ext cx="7065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1339920"/>
            <a:ext cx="70754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1336680"/>
            <a:ext cx="7065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47800" y="1266840"/>
            <a:ext cx="564840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pical Longline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09840" y="1066680"/>
            <a:ext cx="612432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line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152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49:33Z</dcterms:created>
  <dc:creator>johnh</dc:creator>
  <dc:description/>
  <dc:language>en-US</dc:language>
  <cp:lastModifiedBy>johnh</cp:lastModifiedBy>
  <dcterms:modified xsi:type="dcterms:W3CDTF">2008-03-31T11:21:00Z</dcterms:modified>
  <cp:revision>17</cp:revision>
  <dc:subject/>
  <dc:title>Overview of Tuna Stock Status in the WCPFC Area</dc:title>
</cp:coreProperties>
</file>