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1C88-B57B-4E8B-85C8-5127601F8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E060-C21B-4536-A7E8-0E49EBA50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F4BB-9431-4540-864A-28BB9A6BB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47E8-456C-43D6-BF68-EA9C65DE9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A4ACE-9AB9-4961-9856-880EC39A8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BE7CA-E784-42D2-806E-B0D7FD001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39F82-74F8-4517-AFF0-2982BCAD0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91C1E-91EF-46C0-BDC7-2AADFAF7A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9D81F-3703-4EEC-BFC4-CCD7B312D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AC18A-89AD-42C5-943A-D65F24C8D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EF367-3AA1-4D68-95D9-60360C1E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0282-F24E-4FE4-85E2-1AB5F0F18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E76EE-DB30-4181-8136-E990FE46A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3B14D-FA29-47A9-8065-90A7EB168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7E0A6-52E1-4109-9FDD-11F185E8B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2691F-A6C1-4EF6-AE52-601C70BCC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F9CD8-42DF-47F5-9DFC-4356829F5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67ED-9F23-43A6-AE34-E1089F811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61C0-E3C2-4E85-86D7-E4178FCEB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E697-29EB-4907-B745-4AD656AC7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2E0D-6A95-4A4E-A1FD-1D3EA712A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981C-90E4-45E0-AA1C-BA2138882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64EB-1ED9-49CA-903B-476F498C8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7A01-CC0B-46A3-A86D-08597DBB9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D3D97-4341-4F0D-A3D1-7A93C16850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E34DE-C868-4181-B14C-371F64396C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Chairs meeting WCPFC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58920" y="1916280"/>
            <a:ext cx="64008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Welco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Leaving Gu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Two key issues for 200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Why an informal mee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Structure of the mee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What are the outcomes of the meeti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Leaving Gua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Unable to deliver on Big eye and yellowfin resol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Expectation from civil society that we wi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A lot of pressure to join the Commission and exploit the resources of the WCPFC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Lack of understanding of what it was we were trying to manage in its full sense. PS and 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Need to try something difference to get a result in Bus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The two key deliverabl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A Conservation measure for big-eye and yellowfin tuna that deals effectively with reducing the catch on these speci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ompatible measures on the high seas…..what does it mea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omplicated by Article 10 and discussion on rights of small island stat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omplicated by the desire to continue to harvest skipjack at current level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omplicated by a number of issues people are uncomfortable talking about i.e. how we interpret CM’s, what's a compatible measure, what do we want from the fishery et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Structure of the meet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New agen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Presentations and worksho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Industry presentations wh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Informal meeting no Commission stan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Not looking for agreement or resolution or a draft meas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Chair may draft afterwards to begin a formal proc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Goodwi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Outcom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Getting to Bus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Need a workable resolution early in the proc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Need to understand how to manage this fishe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Need to understand what compatible measures actually me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This meeting should develop a greater understanding of the complexity of our challeng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I am happy just to have the discussion with you it can only help our understanding and contribute to a resol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Thanks for coming - your participation is  genuinely apprecia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10:44:00Z</dcterms:created>
  <dc:creator>Computer</dc:creator>
  <dc:description/>
  <dc:language>en-US</dc:language>
  <cp:lastModifiedBy>Computer</cp:lastModifiedBy>
  <dcterms:modified xsi:type="dcterms:W3CDTF">2008-03-31T11:12:53Z</dcterms:modified>
  <cp:revision>5</cp:revision>
  <dc:subject/>
  <dc:title>Chairs meeting WCPFC</dc:title>
</cp:coreProperties>
</file>