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2122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B632-2F94-4206-8137-2D465A14E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EFCC-CFEE-4938-8471-80B373D6E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D821-3BE5-4B13-B8A0-60D5E53D03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6243D-D469-49E8-ADF4-97BE6F1CC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6E37-7E96-4527-B9CD-7D8BC3971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2EB3-76EA-4A49-AEB0-41529BDE1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F6D7-7599-49E9-A57D-41B5717CC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87FB-4014-4F59-9D45-0B192CD2D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11AA-BA89-4F0F-8459-D0198E18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098E3-C012-4A35-9599-8C4E2F74E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0B65-801E-4400-8BB3-27B4E1177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F73E-EA5D-4699-B0F4-EBD5F953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C8436-7F04-49D9-9E6C-E597E60D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PACIFIC ISLAND COUNTRIES/PNG VIEW ON BIGEYE &amp; YELLOWFIN ISSU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THE SITU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692280"/>
            <a:ext cx="822960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cience clearly show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tate of the 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has to be d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stop overfishing of bigey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longlining on adult 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the impact of FADs on juven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maintain the yellowfin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train overall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juvenile catches especially in Indonesia &amp; Philippin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also plan to make optimum use of the albacore and skipjack sto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IN GU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FA Pro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FAD clo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100%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de in good faith/didn’t 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o complex, too many interests, not enough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NEXT STE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560" y="765000"/>
            <a:ext cx="871380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NA Members/PICs have agreed to apply in their EEZs from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month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quarter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ly 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future, PNA Members/PICs, not the Commission, will adopt and apply measures for their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ill allow the Commission to focus on its 2 main job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ing overall stock status, limits and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ying compatible measures in the high seas including limits to fishing effort and M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964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ahoma"/>
              </a:rPr>
              <a:t>SUPPLEMENTARY BIGEYE &amp; YELLOWFIN CMM AT WCPFC5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9280" y="1197000"/>
            <a:ext cx="878544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atible High Seas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ective high seas purse seine effort limit – closure after X days limit, monitored by VMS (??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 seas catch reten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month high seas FAD clos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0% high seas PS observer cove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closure of 3 high seas pockets?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5% longline bigeye catch limit r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zone-based tropical longline management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NO COMPATIBLE HIGH SEAS MEASURES, CLOSE THE HIGH SEAS UNTIL THERE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NG In Zone Meas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addition to management plans, MTCs, PNG has introduced new in zone measu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ed Morgardo Square, Archipelagic wa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sing 50 nautical mile corridor PNG/Indonesia northern bo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DS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5% FADS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PACIFIC ISLAND COUNTRIES WILL NOT AGREE 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capacity lim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time/area closures 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BEYOND 200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o  move beyond ad hoc piecemeal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ve to longer term strategic measures based on reference points and TACs/TA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58:00Z</dcterms:created>
  <dc:creator>Les</dc:creator>
  <dc:description/>
  <dc:language>en-US</dc:language>
  <cp:lastModifiedBy>Justin Ilakini</cp:lastModifiedBy>
  <dcterms:modified xsi:type="dcterms:W3CDTF">2008-03-31T23:08:46Z</dcterms:modified>
  <cp:revision>26</cp:revision>
  <dc:subject/>
  <dc:title>PACIFIC ISLAND COUNTRIES VIEW ON BIGEYE &amp; YELLOWFIN ISSUES</dc:title>
</cp:coreProperties>
</file>