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91FB-5CF4-4A39-A41D-A267E9257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8A7F-B5F4-4515-A92F-0B205A7F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B15B-40A8-480B-AC5C-71D47AD1B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9D5A-2329-4DCF-B88C-77EE46B65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1148-569D-437A-9A7F-92A19FCA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154E-3A03-4492-BB0A-1BB15036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4377-0CC5-45B2-A544-1C2A61E2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0A73-75AC-4F93-9F68-AF194DCD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3E5C-D12A-439D-A363-02821005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DE77-B5D1-4C4C-9CA7-1082F286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F4B6-D42C-429C-B63F-BD7FC5F3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34D4-D5F9-4D04-808E-72B5DCA4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8BB0-746F-4272-861A-0717E7613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shing Patterns of Fleets and EEZ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vessel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line effort, bigeye catch, CP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47800" y="1266840"/>
            <a:ext cx="564840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pical Longline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09840" y="1066680"/>
            <a:ext cx="612432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line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1T11:21:00Z</dcterms:modified>
  <cp:revision>17</cp:revision>
  <dc:subject/>
  <dc:title>Overview of Tuna Stock Status in the WCPFC Area</dc:title>
</cp:coreProperties>
</file>