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11E0-2AF0-4CF3-8CFC-8840050C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8BF7-3883-4BDA-9D6C-E9995A55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C08A-270D-4FE3-883A-35F8E20F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9FD0-4729-4421-BFFF-91128770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8A9C-AF50-4E95-A10E-C3E1615C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7218-4A97-4BC9-A700-70AA421F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7C21-DE62-4A4D-A0F2-6A67E4E3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A14B-4971-499D-8053-B7D54198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8718-4D5D-427D-86BF-2D8E807B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362D-F92F-4676-8197-7D86F375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09CE-7A09-4E17-BA83-ADD90897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0358-5F97-40DD-8065-09CCFECC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D90E-4227-46C4-8D53-5B42E3D3B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ookman Old Style"/>
              </a:rPr>
              <a:t>SUSTAINABLE TUNA F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man Old Style"/>
              </a:rPr>
              <a:t>TROUBLE BR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Os are campaigning aggressively in the market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aling to retailers and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of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tification is a growth indus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least six certification organi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– a sure sign that their services are in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markets are listening and ac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nsbury &amp; Waitrose 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 Mart in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jor Brands have heard th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s are being given negative messages about the health of tuna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only messages are negative many will stop bu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una market will dec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STAINABILITY IS A MAJOR ISSUE FOR THE NEXT DECAD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WE DON’T ACT NOW OTHERS WILL ACT FOR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619280" y="760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rvation Measures We N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city Limitation – well capacity or vesse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enforcement of the V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osure 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ing object closure, with 100% observer coverage WITH NO EXEM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in the Commission Area to reg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to operate Commission VMS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e Thoughts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fuel efficient way of catching – much ‘greener’ than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ats cannot simply switch back to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chools are no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ess all FO’s are lifted, they will keep aggreg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e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ome vessels a FAD closure would be the same as total clo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fuel over $1,000/tonne some boats won’t go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duction of catch and supply to processors could be substant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we do not agree effective conservation measures soon, tuna markets may go into decline as consumers “turn off” t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would have dire consequences for every one of the fishery’s particip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clining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CHES OF YELLOWFIN AND BIGEYE ARE DECLINING IN EVERY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7240" y="69840"/>
          <a:ext cx="901548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9840"/>
                    <a:ext cx="901548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240" y="84240"/>
          <a:ext cx="901692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84240"/>
                    <a:ext cx="901692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40" y="303120"/>
          <a:ext cx="9139320" cy="60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303120"/>
                    <a:ext cx="913932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84240"/>
          <a:ext cx="9172440" cy="64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4240"/>
                    <a:ext cx="9172440" cy="64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Wid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EYE &amp; YELLOWFIN ARE CONSIDERED TO BE EITHER FULLY OR OVER EXPLOITED IN EVERY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FMOS: POOR REPUT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AGREE LONG TERM CONSERVATIO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ENFORCE WHAT MEASURES THEY DO EN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TAKEN BY CONSENSUS – LOWEST COMMON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t NGOs Have Taken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wildlife/environmental NGOs are focusing more attention on tuna fish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not only on sustain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on equity &amp; returns to resource ow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-catch and discard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0:08:06Z</dcterms:created>
  <dc:creator>Tri-Marine International Pte Ltd</dc:creator>
  <dc:description/>
  <dc:language>en-US</dc:language>
  <cp:lastModifiedBy>Tri-Marine International Pte Ltd</cp:lastModifiedBy>
  <dcterms:modified xsi:type="dcterms:W3CDTF">2008-03-31T01:22:24Z</dcterms:modified>
  <cp:revision>14</cp:revision>
  <dc:subject/>
  <dc:title>SUSTAINABLE TUNA FISHING</dc:title>
</cp:coreProperties>
</file>