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05AF-1D1C-4F82-B42C-172CEFA8F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F381-A561-4723-9A7E-70A8B8AB1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64B8-38C4-4C50-AB12-D25EC3E72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2315-C6A5-4B72-A238-81A9497AD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697A-0C52-41BE-BC78-5E81EB019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6514-ECA5-42A0-ADC5-41AA7DC0F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C8F9-82F4-4A06-BC67-EDB39E640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C481-F080-4773-AE8B-1A1310448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3242-00B2-4DB8-99DE-67FE6567D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FB74-31FC-4822-A207-9C53B56B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8094-7182-47B4-A353-6713B8AD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1D99-75EB-4990-B0F1-BFA95512A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DB6D8-CE13-4B74-AAEA-428236BB4B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shing Patterns of Fleets and EEZ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Hamp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eanic Fisheries Program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ariat of the Pacific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se seine set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fl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E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se seine vessel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line effort, bigeye catch, CP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fl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E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 by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219320" y="1339920"/>
            <a:ext cx="7075440" cy="54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 by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219320" y="1336680"/>
            <a:ext cx="7065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 by E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19320" y="1339920"/>
            <a:ext cx="7075440" cy="54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 by E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19320" y="1336680"/>
            <a:ext cx="7065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Op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747800" y="1266840"/>
            <a:ext cx="5648400" cy="55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opical Longline by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09840" y="1066680"/>
            <a:ext cx="612432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ngline by E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31520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22:49:33Z</dcterms:created>
  <dc:creator>johnh</dc:creator>
  <dc:description/>
  <dc:language>en-US</dc:language>
  <cp:lastModifiedBy>johnh</cp:lastModifiedBy>
  <dcterms:modified xsi:type="dcterms:W3CDTF">2008-03-31T11:21:00Z</dcterms:modified>
  <cp:revision>17</cp:revision>
  <dc:subject/>
  <dc:title>Overview of Tuna Stock Status in the WCPFC Area</dc:title>
</cp:coreProperties>
</file>