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0.wmf" ContentType="image/x-wmf"/>
  <Override PartName="/ppt/media/image2.png" ContentType="image/png"/>
  <Override PartName="/ppt/media/image8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7.wmf" ContentType="image/x-wmf"/>
  <Override PartName="/ppt/media/image21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9.wmf" ContentType="image/x-wmf"/>
  <Override PartName="/ppt/media/image15.wmf" ContentType="image/x-wmf"/>
  <Override PartName="/ppt/media/image1.jpeg" ContentType="image/jpeg"/>
  <Override PartName="/ppt/media/image5.jpeg" ContentType="image/jpeg"/>
  <Override PartName="/ppt/media/image18.wmf" ContentType="image/x-wmf"/>
  <Override PartName="/ppt/media/image6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</p:sldIdLst>
  <p:sldSz cx="9144000" cy="6858000"/>
  <p:notesSz cx="6919913" cy="9205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0" y="0"/>
            <a:ext cx="6919200" cy="920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16"/>
          </p:nvPr>
        </p:nvSpPr>
        <p:spPr>
          <a:xfrm>
            <a:off x="3919320" y="-36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sldImg"/>
          </p:nvPr>
        </p:nvSpPr>
        <p:spPr>
          <a:xfrm>
            <a:off x="1158480" y="690120"/>
            <a:ext cx="4600440" cy="345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ftr" idx="17"/>
          </p:nvPr>
        </p:nvSpPr>
        <p:spPr>
          <a:xfrm>
            <a:off x="0" y="8741880"/>
            <a:ext cx="299736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 type="sldNum" idx="18"/>
          </p:nvPr>
        </p:nvSpPr>
        <p:spPr>
          <a:xfrm>
            <a:off x="3919320" y="8741880"/>
            <a:ext cx="2997000" cy="4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F27DD-39AD-444E-8B9C-7E68466F3C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58840" y="690480"/>
            <a:ext cx="4600440" cy="345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92280" y="4371480"/>
            <a:ext cx="5533920" cy="414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19680" y="8742240"/>
            <a:ext cx="299700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DC49-5D09-4156-8E2D-ECCFC30402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6974-E044-4505-8478-9C12E884A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A24F-03E0-49D9-BE80-CA183513D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495-432B-4497-9CBA-D0189D569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5D37-2A1D-4479-A2D6-E871ECFCDE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EC35-E20B-4CC6-9D9A-A2AC00CAE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D4C00-7193-4D3E-BA62-AB70E5A79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68F37-D100-4831-8753-D42A6692E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0270B-010B-481A-B3A4-5BAD01338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7B8F9-2EAD-4F8B-91D1-6BB578CD9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B83EC-9B4D-4061-968C-85754CD0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71ECC-E3A7-4AB9-A749-42907DB64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994F-94FD-492A-91F9-36F5DB395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4C39F-A0E7-4D12-9DC9-A328B2F1A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2E251-8127-4EFA-8AF2-9571120C1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BD8F5-0E11-4BDE-B014-675C1A15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0C1E-DC88-4CCB-BB8E-FB88C218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01545-3865-4B0B-B17E-1040686FA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3EF27E-8BBB-4342-BADD-E4168EC6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32D681-76CB-471B-AD00-1C7D654FC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E6797D-9173-4AD7-9FA3-F5C3749F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526FD2-218F-4B51-A8DD-CFCF97474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4CC618-913C-4084-BBA9-8BD15624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20407-D1DC-4FBD-AE62-7F5FBC572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C65E0A-1518-4AA4-B611-20FF6559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A0DD04-404E-41C8-8913-E871E3CD1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7AB0E7-CC8B-4310-88A7-015EC8C8C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C58C5-90FA-4B8F-BB3F-DE59D78E6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4B7E64-CAB8-460C-80E2-8FE280064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8526B1-7E45-404D-8010-7E95077A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C075DD-3309-4AA4-99E9-F8908998B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29E65A-355F-4719-A3C1-AA4A465B8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857346-D462-43B1-BA18-ACDD72D0F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CF3E4B-8A33-439F-936C-0F0FA2307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15E2-402C-4413-91D5-246B7A08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21D36-4E00-4F5A-B51E-ABB8D91E3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DA139F-1C91-43A5-B735-086D4DED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DD1A41-34F4-41BC-BE02-DC6CCEEC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250F70-2224-4E5F-9AAC-495D9959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9E2E64-3C7C-4176-A0CD-682E349A8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619442-3CF4-421E-89D8-DB84F3A53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99F797-0496-4158-A2BE-EBE0138F5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7EA888-9E86-4DE4-B9C8-3FCE9400C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CA3628-3CFC-4183-A65D-A2BA42A28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07A49B-A304-4CC9-915B-489838CC3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9BB3-7DAF-488C-AC19-8BC46231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3DE9FD-C8FF-476A-8373-6552EC670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E815FD-9AD7-4FBE-BD67-C5E85355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C08570-7FAC-4F98-9DCB-D14D5DF22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6A022-A5DF-40D3-BB65-678D73D8D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A5F72-6921-425B-912C-EC36CD6A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43C600-7A01-4B37-ADFC-D94AA63BA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42419-21CA-4CA7-8A3F-FBE405F98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6F196-4399-43EB-9148-47E25150A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D279AF-AD59-4C83-96A3-7DA5068C2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72AE82-1B85-4DBC-B48D-928E8F190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513B2-071A-4F83-A583-3617A13D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9D8E6-0F07-4DB6-B566-91C4942FC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7C66-7053-47DC-A82E-47497241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3A5F-95E0-43A2-80B5-E3C42289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573-BC4D-4438-8EFA-37DE9DEB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28F73-BD23-4777-A37B-5793419A45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2648-673F-4139-BCF7-9330C126C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5FC8-7950-40E2-A032-9A1C369E7F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4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25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62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60635-9E00-4589-A9C6-B9AB778DB2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206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243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93EB7-CF8B-4E7A-9868-06D80CB02F4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0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1905120" y="0"/>
            <a:ext cx="5143320" cy="68580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04760" y="2759040"/>
            <a:ext cx="5181480" cy="36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Managing bigeye &amp; yellowfin tuna in the WCPO: </a:t>
            </a:r>
            <a:br>
              <a:rPr sz="6000"/>
            </a:br>
            <a:r>
              <a:rPr b="0" lang="en-US" sz="6000" spc="-1" strike="noStrike">
                <a:solidFill>
                  <a:srgbClr val="ff3300"/>
                </a:solidFill>
                <a:latin typeface="Tahoma"/>
              </a:rPr>
              <a:t>the Hawaii perspectiv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336191-793A-42E8-B32F-11F2EF77008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345960" y="233280"/>
            <a:ext cx="80884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Comic Sans MS"/>
              </a:rPr>
              <a:t>HAWAII PELAGIC FISHERIES AS PERCENTAGE OF TOTAL PACIFIC OCEAN BIGEYE TUNA CATCH (2004)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763120" cy="3733920"/>
          </a:xfrm>
          <a:prstGeom prst="rect">
            <a:avLst/>
          </a:prstGeom>
          <a:ln w="0">
            <a:noFill/>
          </a:ln>
        </p:spPr>
      </p:pic>
      <p:sp>
        <p:nvSpPr>
          <p:cNvPr id="319" name=""/>
          <p:cNvSpPr/>
          <p:nvPr/>
        </p:nvSpPr>
        <p:spPr>
          <a:xfrm>
            <a:off x="615960" y="2176560"/>
            <a:ext cx="17064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THER N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97.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19920" y="3333600"/>
            <a:ext cx="266688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AWAII LONGLINE FISH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2.3%(4% of WCP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H="1">
            <a:off x="5191200" y="3984480"/>
            <a:ext cx="170640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166840" y="2682720"/>
            <a:ext cx="620640" cy="362160"/>
          </a:xfrm>
          <a:prstGeom prst="line">
            <a:avLst/>
          </a:prstGeom>
          <a:ln w="93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304920" y="556272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*WPFRMC. 2006. Amendment 14 to the Fishery Management Plan for the Pelagic Fisheries of the Western Pacific Region.</a:t>
            </a: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16795C-66D6-4170-B832-C775A1C0F52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304920" y="304920"/>
            <a:ext cx="86104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mic Sans MS"/>
              </a:rPr>
              <a:t>HAWAII LONGLINE FISHERY % OF TOTAL NO. OF LONGLINE VESSELS OPERATING IN THE WESTERN AND CENTRAL PACIFIC FISHERIES CONVENTION AREA (2004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152280" y="2286000"/>
            <a:ext cx="8763120" cy="3200400"/>
            <a:chOff x="152280" y="2286000"/>
            <a:chExt cx="8763120" cy="3200400"/>
          </a:xfrm>
        </p:grpSpPr>
        <p:pic>
          <p:nvPicPr>
            <p:cNvPr id="326" name="" descr=""/>
            <p:cNvPicPr/>
            <p:nvPr/>
          </p:nvPicPr>
          <p:blipFill>
            <a:blip r:embed="rId1"/>
            <a:stretch/>
          </p:blipFill>
          <p:spPr>
            <a:xfrm>
              <a:off x="152280" y="2286000"/>
              <a:ext cx="8763120" cy="3200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39640" y="2584440"/>
              <a:ext cx="1706760" cy="116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OTHER NATION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97.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665760" y="3576600"/>
              <a:ext cx="1706760" cy="147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HAWAII LONGLINE FISHER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2.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5114520" y="4133520"/>
              <a:ext cx="170676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90880" y="3017880"/>
              <a:ext cx="620640" cy="309960"/>
            </a:xfrm>
            <a:prstGeom prst="line">
              <a:avLst/>
            </a:prstGeom>
            <a:ln w="9360">
              <a:solidFill>
                <a:srgbClr val="0000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228600" y="5486400"/>
            <a:ext cx="861048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illiams, P. and C. Reid. 2005. Overview of tuna fisheries in the western and central Pacific Ocean, including economic conditions – 2004. Meeting of the Scientific Committee of the Western and Central Pacific Fisheries Commission, WCPFC-SC-1, Noumea, New Caledonia, 8-19 August 2005. GN WP-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mic Sans MS"/>
              </a:rPr>
              <a:t>*</a:t>
            </a:r>
            <a:r>
              <a:rPr b="0" lang="en-US" sz="1400" spc="-1" strike="noStrike">
                <a:solidFill>
                  <a:srgbClr val="ffffff"/>
                </a:solidFill>
                <a:latin typeface="Comic Sans MS"/>
                <a:ea typeface="Arial"/>
              </a:rPr>
              <a:t>WPRFMC. 2005. The Pelagic Fisheries of the Western Pacific Region Annual Report 200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EFA6DB-8559-4033-896C-29F4038BF14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7934040" cy="4759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3870360" y="341280"/>
            <a:ext cx="3749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0" y="152280"/>
            <a:ext cx="914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Contribution of Hawaii Longline Fishery to the Total Observed Effort (32.22 million hooks) in the Western and Central Pacific between 2001 and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321EA9-AC42-4886-B4F6-09FD7129AB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shing effort north and south of Hawai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rcRect l="9775" t="4392" r="13673" b="24241"/>
          <a:stretch/>
        </p:blipFill>
        <p:spPr>
          <a:xfrm>
            <a:off x="1905120" y="1752480"/>
            <a:ext cx="5562360" cy="49532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2540160" y="6703920"/>
            <a:ext cx="4689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728800" y="3008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C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5716440" y="480060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2F82-5323-4FA1-8250-B129925F77E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CPO yellowfin and bigeye size frequency by gear type. Source: SPC-OF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543800" cy="479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C58B-4D18-4018-86E7-ABEF57203E9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76320" y="925560"/>
            <a:ext cx="2438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Note t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is pre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inantly juven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sub-adult fish, especially in Region 4. Sour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2971800" y="762120"/>
          <a:ext cx="5886360" cy="2895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762120"/>
                    <a:ext cx="5886360" cy="28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2971800" y="3951360"/>
          <a:ext cx="5943600" cy="2657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71800" y="3951360"/>
                    <a:ext cx="5943600" cy="26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 flipH="1">
            <a:off x="4209840" y="45370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4873680" y="434340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860520" y="43434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597800" y="455436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H="1">
            <a:off x="4819320" y="148896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483160" y="1295280"/>
            <a:ext cx="1066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936840" y="12952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674120" y="15066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443640" y="1981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5946120" y="169056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00800" y="45720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028560" y="42814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2BAF-0C5F-4F1A-B9E1-EBCAC2130E1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2057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shery Yellowfi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na catch 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ze. Sourc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C-O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2895480" y="3444840"/>
          <a:ext cx="5359680" cy="2727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444840"/>
                    <a:ext cx="5359680" cy="272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2" name=""/>
          <p:cNvSpPr/>
          <p:nvPr/>
        </p:nvSpPr>
        <p:spPr>
          <a:xfrm flipV="1">
            <a:off x="5867280" y="863640"/>
            <a:ext cx="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3" name=""/>
          <p:cNvGraphicFramePr/>
          <p:nvPr/>
        </p:nvGraphicFramePr>
        <p:xfrm>
          <a:off x="2819520" y="457200"/>
          <a:ext cx="5419440" cy="2712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3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57200"/>
                    <a:ext cx="5419440" cy="271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5" name=""/>
          <p:cNvSpPr/>
          <p:nvPr/>
        </p:nvSpPr>
        <p:spPr>
          <a:xfrm flipV="1">
            <a:off x="5943600" y="939600"/>
            <a:ext cx="0" cy="17269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5952960" y="3867120"/>
            <a:ext cx="0" cy="172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3962160" y="10666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648320" y="85248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631920" y="8380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69200" y="103968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19920" y="3886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869800" y="365760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3733560" y="41004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886200"/>
            <a:ext cx="107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veni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708240" y="388620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445520" y="408780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178680" y="12952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028560" y="1066680"/>
            <a:ext cx="7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3386-5EA5-4437-994B-97F5827B62B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05120" y="-360"/>
            <a:ext cx="723888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ok size/type does not show much variation in size selection. Source: Kim et al (2006) WCPFC-SC2-2006/EB WP-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rcRect l="0" t="1407" r="0" b="0"/>
          <a:stretch/>
        </p:blipFill>
        <p:spPr>
          <a:xfrm>
            <a:off x="1905120" y="1295280"/>
            <a:ext cx="5867280" cy="534348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609480" y="1219320"/>
            <a:ext cx="770040" cy="1752480"/>
          </a:xfrm>
          <a:prstGeom prst="rect">
            <a:avLst/>
          </a:prstGeom>
          <a:ln w="0">
            <a:noFill/>
          </a:ln>
        </p:spPr>
      </p:pic>
      <p:pic>
        <p:nvPicPr>
          <p:cNvPr id="382" name="" descr=""/>
          <p:cNvPicPr/>
          <p:nvPr/>
        </p:nvPicPr>
        <p:blipFill>
          <a:blip r:embed="rId3"/>
          <a:stretch/>
        </p:blipFill>
        <p:spPr>
          <a:xfrm>
            <a:off x="533520" y="2917800"/>
            <a:ext cx="992160" cy="188280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4"/>
          <a:stretch/>
        </p:blipFill>
        <p:spPr>
          <a:xfrm>
            <a:off x="609480" y="4876920"/>
            <a:ext cx="962280" cy="1904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33BE-A221-4A02-9A17-F2839DE6700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ential Longline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0" y="9144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nimum size: how small? Hawaii fleet average size = 108-114 cm bigey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ly high survival of properly handled released bigey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tch quota: Hawaii = 5000 mt?, Am Samoa-Guam-CNMI 2000 mt each? Time limits on achieving 2000 mt? (Other major US longline fishery in Am Samoa currently catch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≈ 200 mt bigeye annual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d season: how long, and wh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eet set limits? Limits on hooks per set? Vessel day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dit for pre-existing management measures: limited entry, area closures around MHI, NWHI and Am. Samoa, bycatch limits, e.g. turtle cap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073F8-85E3-4F51-9851-69822341596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bigeye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914400" y="1677960"/>
            <a:ext cx="7467480" cy="4494240"/>
            <a:chOff x="914400" y="1677960"/>
            <a:chExt cx="7467480" cy="4494240"/>
          </a:xfrm>
        </p:grpSpPr>
        <p:graphicFrame>
          <p:nvGraphicFramePr>
            <p:cNvPr id="297" name=""/>
            <p:cNvGraphicFramePr/>
            <p:nvPr/>
          </p:nvGraphicFramePr>
          <p:xfrm>
            <a:off x="914400" y="1677960"/>
            <a:ext cx="7467480" cy="449424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1677960"/>
                      <a:ext cx="7467480" cy="4494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99" name=""/>
            <p:cNvSpPr/>
            <p:nvPr/>
          </p:nvSpPr>
          <p:spPr>
            <a:xfrm>
              <a:off x="2820960" y="3733920"/>
              <a:ext cx="676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S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EEAA-D860-48BD-8E9F-B0D1EFA5D8B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CPO catches of yellowfin tuna. Dashed line represent MSY from 2006 stock assessment (Source SPC-OF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1" name=""/>
          <p:cNvGraphicFramePr/>
          <p:nvPr/>
        </p:nvGraphicFramePr>
        <p:xfrm>
          <a:off x="1066680" y="1828800"/>
          <a:ext cx="7086600" cy="4641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828800"/>
                    <a:ext cx="7086600" cy="46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1FF-6832-4C9F-AB66-211E910137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3"/>
          <p:cNvSpPr/>
          <p:nvPr/>
        </p:nvSpPr>
        <p:spPr>
          <a:xfrm>
            <a:off x="0" y="1044720"/>
            <a:ext cx="9144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al characteristics that could be considered when developing management options for bigeye targeting longline fisheries in the Hawaii fish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eye is the target species and is the revenue driver for the fishery and generates approximately 60% ex-vessel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.S. longline fisheries most species are retained and sold and contribute to the economic viability of the fishery. Main discards are lancet fish and blue shar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sh fish markets require consistent supply requiring compatible management reg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9C87-0473-4FEA-B255-8FE5D4C7E74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awaii Fresh Fish Longline Fisher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ng costs are comparatively high as trips are short, with travel and port days reducing effici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longline fishery is characterized by relatively low volumes of high value landings. Honolulu ranks low volume-wise in the US fish port landings, but is 4th in terms of landed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domestic market relies almost entirely on the Hawaii longline fishery bigeye cat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bigeye tuna is extremely important both economically and culturally to the Hawaii commu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5723-2897-4F70-A6A9-12E6178D1D1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mited entry program, maximum fleet size of 164 vessels, current fleet size since 1992 fleet has been stable at around 120-125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shery has maximum size limit of 101 ft. Average size 70 ft and size range of 42 -98ft in lengt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gbooks and observers are mandatory, with 20% observer coverage in tuna fleet, 100% in swordfish fle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0-75-nm longline area closure around entire Hawaii (25% of EEZs), Archipelago to minimize protected species interactions and interactions and competition with small vessel troll and handline flee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MS mandatory on all Hawaii longline vesse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these measures pre-date the FAO Code of Conduct For Responsible Fishe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A1A5-F740-4299-87C3-5D8336BC99C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waii longline fishery: fleet characteristics and management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-360" y="144756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ycatch mitigation measures for turtles (circle hooks, mackerel type bait, de-hookers, turtle handling requirements) and seabirds (weighted hooks, line shooters, blue dyed bait, night setting for swordfish boats). Measures apply &gt; 23 deg N lat for tuna vessels and at all latitudes for swordfish vessel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wordfish fishery constrained by effort (50% of 1994-1999 average = 2240 sets) with set certificates, plus hard caps on leatherback (16) and loggerhead (17) turtl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ep setting is defined in regulations, with minimum number of hooks between floats and minimum (20 m) float line lengths and minimum depth of sag, plus no light-sticks, plus cap (10) on swordfish reten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nual protected species certification required for vessel owners and opera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 landings of shark fins without carcasses, or fins must be 5% of landed total shark weigh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CG boards about 30% of fleet annually for at sea insp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6FBF-2599-4216-AA88-80C30372F7E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3808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awaii longline fishery fleet size. Note relative stability since 199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rcRect l="0" t="0" r="0" b="3029"/>
          <a:stretch/>
        </p:blipFill>
        <p:spPr>
          <a:xfrm>
            <a:off x="228600" y="2133720"/>
            <a:ext cx="8305920" cy="411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4759-9E11-43E6-92D7-043CE197257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waii fishery has increased hooks set over time, but with major increase following swordfish closure in 2001 and, more recently increasing fuel cos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ahoma"/>
              </a:rPr>
              <a:t>Source: NMFS-PIFSC &amp; WPacF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5800" y="1828800"/>
          <a:ext cx="7924680" cy="4692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7924680" cy="469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6CE5-9461-4856-BAB8-AFD3589A971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5T20:41:39Z</dcterms:created>
  <dc:creator>Paul Dalzell</dc:creator>
  <dc:description/>
  <dc:language>en-US</dc:language>
  <cp:lastModifiedBy>LaptopAccount</cp:lastModifiedBy>
  <dcterms:modified xsi:type="dcterms:W3CDTF">2008-03-28T22:39:00Z</dcterms:modified>
  <cp:revision>22</cp:revision>
  <dc:subject/>
  <dc:title>Bigeye tuna: the Hawaii longline perspective</dc:title>
</cp:coreProperties>
</file>