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BFED-5CFE-4E34-8255-CE28D8016C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5A7D-98FD-441F-8415-24629EFDB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287F3-1CCF-4BCB-AFAD-F65F14D73B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8F85-0667-44A0-9EE1-2C4E5326EC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3B82C-2688-4911-BADF-D610EFF7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303-CBF0-4185-A952-4DE0E466F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A849-8B0D-4CD5-8217-7825D0418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1BC-6C06-4950-863B-92C0138A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6811-3313-4134-B6E1-25424DD40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02CC-54D7-4C2F-B3DF-A9D19BC3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4F99-7B94-4A36-8ECB-9EA918A7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00AA7-095B-4A33-895F-C7D9230B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7839D-F91A-4F54-BDB2-8857E43D9A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ahoma"/>
              </a:rPr>
              <a:t>Where to from 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hat we have learnt so far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WCPFC measures (CMM 2006-01 &amp; 2005-01) established effort caps – but insufficient to address overfis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S management measures are being implemented by PNA members within EEZ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% observer cove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greement that require ‘complimentary’ measures in the high seas (achieve equivalent effect but not necessarily the sa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nciple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s should be established across PS and LL to be effective &amp; not pose disproportional burden on fishe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im to minimise impacts on skipjack and albacore cat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ed to act at the next meeting ……no compromise on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S and compatible with EEZ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vesse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Total catch limit (responsive to population size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ffffff"/>
                </a:solidFill>
                <a:latin typeface="Arial"/>
              </a:rPr>
              <a:t>On all PS effort or FAD/log set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Catch reten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3 month FAD clos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100% Observer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400" spc="-1" strike="noStrike">
                <a:solidFill>
                  <a:srgbClr val="ffffff"/>
                </a:solidFill>
                <a:latin typeface="Arial"/>
              </a:rPr>
              <a:t>Staged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ggested PS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osure of high seas po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S discussion on co-operative management and decision ma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 closure say 3 month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uggested PS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ternative metho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t depth restri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time of 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trictions on mesh siz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on phase consid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tential LL measure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In high seas between 2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N and 10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en-AU" sz="3200" spc="-1" strike="noStrike">
                <a:solidFill>
                  <a:srgbClr val="ffffff"/>
                </a:solidFill>
                <a:latin typeface="Arial"/>
              </a:rPr>
              <a:t>S and compatible with EEZ meas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vessels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effort limit (days) monitored through VMS (similar to VDS-like schem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Total catch limi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25% reduction  in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Closed areas/seasons (in addition to above measur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800" spc="-1" strike="noStrike">
                <a:solidFill>
                  <a:srgbClr val="ffffff"/>
                </a:solidFill>
                <a:latin typeface="Arial"/>
              </a:rPr>
              <a:t>Observer 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 of high seas pocke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osures of high seas until measures develop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address vulnerability in Eastern sect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effort from non-memb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UU effor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rket Pressure/ Certif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ture certification pressures/requiremen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CS arrang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neral additional issue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s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tus of the st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ig-eye and yellowfin measure which include compatible measure  eg VDS on High se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spirational righ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w Entr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1T02:15:46Z</dcterms:created>
  <dc:creator>Higgins Amy</dc:creator>
  <dc:description/>
  <dc:language>en-US</dc:language>
  <cp:lastModifiedBy>SANTANA LARA</cp:lastModifiedBy>
  <dcterms:modified xsi:type="dcterms:W3CDTF">2008-04-14T06:35:43Z</dcterms:modified>
  <cp:revision>19</cp:revision>
  <dc:subject/>
  <dc:title>Where to from here?</dc:title>
</cp:coreProperties>
</file>