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C45F1-1415-4BF2-87B1-21EB64878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12362-3673-4215-9AE1-7A1DCDCF1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2E956-3380-43E7-8824-37447B634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DAEF4-7F9A-42FB-9397-AB50F0B7D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0C8BC-6070-4679-AC42-57AC191A7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2472E-04FB-47A5-8D50-9DAA35A36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4B6BE-23FE-4DE1-A75E-4796B1667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F4933-6424-418E-9DD0-A6CAA51EF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19B8F-663A-4D8E-B597-67ED7F005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81697-E4F1-4DD9-BF43-A058FAE4F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4FDF1-60AF-46F1-AB45-5B6C00493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CD9ED-2A59-4D7E-9957-65C7E60BA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AD044-969C-4B77-8411-8A1203811C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ahoma"/>
              </a:rPr>
              <a:t>Where to from here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we have learnt so far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21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isting WCPFC measures (CMM 2006-01 &amp; 2005-01) established effort caps – but insufficient to address overfis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S management measures are being implemented by PNA members within EEZ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tch ret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 month FAD clo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18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0% observer cove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greement that require ‘complimentary’ measures in the high seas (achieve equivalent effect but not necessarily the s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rincipl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asures should be established across PS and LL to be effective &amp; not pose disproportional burden on fishe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im to minimise impacts on skipjack and albacore catc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ed to act at the next meeting ……no compromise on th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uggested PS measure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In high seas between 2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°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N and 1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°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S and compatible with EEZ meas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Total effort limit (vessel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Total effort limit (days) monitored through VMS (similar to V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Total catch limit (responsive to population size chang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On all PS effort or FAD/log set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Catch ret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3 month FAD clo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100% Observer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Staged appro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ggested PS Meas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osure of high se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osure of high seas pock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S discussion on co-operative management and decision ma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ull closure say 3 month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uggested PS measure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ternative metho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t depth restri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trictions on time of 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trictions on mesh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on phase consid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otential LL measure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In high seas between 20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°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N and 10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°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S and compatible with EEZ meas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Total effort limit (vessels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Total effort limit (days) monitored through VMS (similar to VDS-like schem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Total catch limi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25% reduction  in capac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Closed areas/seasons (in addition to above measur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Observer requiremen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osure of high seas pocke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osures of high seas until measures develop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to address vulnerability in Eastern secto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ditional effort from non-membe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UU effor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rket Pressure/ Certific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uture certification pressures/requiremen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CS arrang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General additional issue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us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tus of the st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g-eye and yellowfin measure which include compatible measure  eg VDS on High se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pirational righ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w Entr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1T02:15:46Z</dcterms:created>
  <dc:creator>Higgins Amy</dc:creator>
  <dc:description/>
  <dc:language>en-US</dc:language>
  <cp:lastModifiedBy>SANTANA LARA</cp:lastModifiedBy>
  <dcterms:modified xsi:type="dcterms:W3CDTF">2008-04-14T06:35:43Z</dcterms:modified>
  <cp:revision>19</cp:revision>
  <dc:subject/>
  <dc:title>Where to from here?</dc:title>
</cp:coreProperties>
</file>