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F090-F0CC-4242-A341-0181F4D5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C298-4395-42B3-84A4-E9C878DD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9C1F-C6F4-48EB-93C2-4C7AFF37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14CC-EF1D-4565-916B-5E3423D9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E0F1-AAA5-4D98-90FD-6A69D862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348A-143A-49C2-AB5E-09861E19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86C3-0AC2-4B1A-A00F-F5B8B38B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A28C-8100-4A34-8DDE-8DBD3C70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18FD-6420-4CA1-A0FC-9948A7D6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1BE9-E7FB-4606-B9C0-CD5BF84B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8BB8-9AD7-4B06-8482-905CC68F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ADF2-036C-414E-A3F2-3B7CD456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4639-22D5-4CE5-AA24-D93418313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ACIFIC ISLAND COUNTRIES/PNG VIEW ON BIGEYE &amp; YELLOWFI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clearly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he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op overfishing of big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longlining on adult 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impact of FADs on juven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intain the yellowfi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ain overall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juvenile catches especially in Indonesia &amp; Philipp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plan to make optimum use of the albacore and skipjack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 GU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A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FAD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100%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n good faith/did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complex, too many interests, not enoug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A Members/PICs have agreed to apply in their EEZs from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onth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, PNA Members/PICs, not the Commission, will adopt and apply measures for their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llow the Commission to focus on its 2 main job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overall stock status, limit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compatible measures in the high seas including limits to fishing effort and M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UPPLEMENTARY BIGEYE &amp; YELLOWFIN CMM AT WCPFC5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High Sea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high seas purse seine effort limit – closure after X days limit, monitored by VMS (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eas catch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high seas FAD clo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high seas PS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losure of 3 high seas pockets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limit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zone-based tropical longline management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OMPATIBLE HIGH SEAS MEASURES, CLOSE THE HIGH SEAS UNTIL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NG In Zone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management plans, MTCs, PNG has introduced new in zone meas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Morgardo Square, Archipelagic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50 nautical mile corridor PNG/Indonesia northern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ADS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CIFIC ISLAND COUNTRIES WILL NOT AGREE 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capacity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time/area closures 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YOND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 move beyond ad hoc pieceme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longer term strategic measures based on reference points and TACs/TA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58:00Z</dcterms:created>
  <dc:creator>Les</dc:creator>
  <dc:description/>
  <dc:language>en-US</dc:language>
  <cp:lastModifiedBy>Justin Ilakini</cp:lastModifiedBy>
  <dcterms:modified xsi:type="dcterms:W3CDTF">2008-03-31T23:08:46Z</dcterms:modified>
  <cp:revision>26</cp:revision>
  <dc:subject/>
  <dc:title>PACIFIC ISLAND COUNTRIES VIEW ON BIGEYE &amp; YELLOWFIN ISSUES</dc:title>
</cp:coreProperties>
</file>