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5BE5-55DC-4993-9382-2F5ED1AC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E9D0-D448-4054-98CD-C5883216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4D2-CF76-46DF-9D6B-4B9E6045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1631-D77A-49D1-AEC4-3CC8998D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CB71-029D-426C-BFEF-27DDFF8A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36D4-376C-4F8B-84FC-35EC516F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C93B-1E80-42FB-8E03-303BC5EE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E912-6685-4FA7-837E-09EDE249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65F5-7CB3-453C-848C-2812854B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A80D-CFCE-4B5B-8243-806F9661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EDAF-911A-4B1B-B02D-5003CCBB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1028-FBB6-4302-9291-0D62C76C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7A1A-C6D1-403B-BF41-88225CAB3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ere to from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 have learnt so f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WCPFC measures (CMM 2006-01 &amp; 2005-01) established effort caps – but insufficient to address over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 management measures are being implemented by PNA members with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 that require ‘complimentary’ measures in the high seas (achieve equivalent effect but not necessari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should be established across PS and LL to be effective &amp; not pose disproportional burden on fish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to minimise impacts on skipjack and albacore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act at the next meeting ……no compromise o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 and compatible with EEZ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vess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catch limit (responsive to population siz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 all PS effort or FAD/log s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00% Observ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tag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ed PS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p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 discussion on co-operative management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closure say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depth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time of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mesh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n phase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L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 and compatible with EEZ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vessel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-like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catch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5% reduction  in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osed areas/seasons (in addition to above meas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bserver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 of high seas po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s of high seas until measures develop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address vulnerability in Eastern se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effort from non-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U ef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Pressure/ C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certification pressures/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S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dditional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of th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-eye and yellowfin measure which include compatible measure  eg VDS on High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iration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15:46Z</dcterms:created>
  <dc:creator>Higgins Amy</dc:creator>
  <dc:description/>
  <dc:language>en-US</dc:language>
  <cp:lastModifiedBy>SANTANA LARA</cp:lastModifiedBy>
  <dcterms:modified xsi:type="dcterms:W3CDTF">2008-04-14T06:35:43Z</dcterms:modified>
  <cp:revision>19</cp:revision>
  <dc:subject/>
  <dc:title>Where to from here?</dc:title>
</cp:coreProperties>
</file>