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7649C-8131-4DCC-964C-A4FB4CA20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450A6-BD68-4B8B-BBF2-2543D5A97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28296-5DDD-4342-87EC-8590DE2CF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0198F-EB61-45C2-A236-32405DFB6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CDD8E-010B-4CB4-8DA7-2A9971B1F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75569-2B77-40E8-8BED-8AA75800C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FAF8B-561E-469B-A86E-7A65E898B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CFDA3-C9E9-4929-A4CA-B47BCC042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71A83-4E8E-4FA1-AE68-D7954FAC0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82362-2B9F-44D5-88FE-A07E92B0B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E51B5-D381-48F3-AD3F-4F4B2A9BA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EB4CC-8476-4565-B98E-8CCD5282F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E99FC-D728-45B4-AB2F-D146ED7595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Bookman Old Style"/>
              </a:rPr>
              <a:t>SUSTAINABLE TUNA FISH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Bookman Old Style"/>
              </a:rPr>
              <a:t>TROUBLE BREW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tion in the Markets -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GOs are campaigning aggressively in the marketpl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ppealing to retailers and consum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can expect more of the s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tion in the Markets -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ertification is a growth industr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t least six certification organis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can expect more – a sure sign that their services are in dem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tion in the Markets -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permarkets are listening and acting e.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ainsbury &amp; Waitrose in the U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al Mart in the U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major Brands have heard the mess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tion in the Markets -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sumers are being given negative messages about the health of tuna stock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f the only messages are negative many will stop buy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tuna market will decl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USTAINABILITY IS A MAJOR ISSUE FOR THE NEXT DECADE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F WE DON’T ACT NOW OTHERS WILL ACT FOR 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619280" y="760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servation Measures We Ne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pacity Limitation – well capacity or vessel numb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ffective enforcement of the V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tal closure o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loating object closure, with 100% observer coverage WITH NO EXEMP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easures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ll vessels in the Commission Area to regis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ll vessels to operate Commission VMS at all tim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ome Thoughts on FA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ery fuel efficient way of catching – much ‘greener’ than school fish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oats cannot simply switch back to school fish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schools are not the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nless all FO’s are lifted, they will keep aggregat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ore on FA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r some vessels a FAD closure would be the same as total clos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ith fuel over $1,000/tonne some boats won’t go fish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reduction of catch and supply to processors could be substanti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INAL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f we do not agree effective conservation measures soon, tuna markets may go into decline as consumers “turn off” tun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at would have dire consequences for every one of the fishery’s participa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eclining Resour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TCHES OF YELLOWFIN AND BIGEYE ARE DECLINING IN EVERY OCE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57240" y="69840"/>
          <a:ext cx="9015480" cy="6443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240" y="69840"/>
                    <a:ext cx="9015480" cy="644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84240" y="84240"/>
          <a:ext cx="9016920" cy="6443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240" y="84240"/>
                    <a:ext cx="9016920" cy="644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1440" y="303120"/>
          <a:ext cx="9139320" cy="6005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0" y="303120"/>
                    <a:ext cx="9139320" cy="600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0" y="84240"/>
          <a:ext cx="9172440" cy="6468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84240"/>
                    <a:ext cx="9172440" cy="646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orld Wide Probl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IGEYE &amp; YELLOWFIN ARE CONSIDERED TO BE EITHER FULLY OR OVER EXPLOITED IN EVERY OCE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FMOS: POOR REPUTATION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NABLE TO AGREE LONG TERM CONSERVATION MEAS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NABLE TO ENFORCE WHAT MEASURES THEY DO ENA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CISIONS TAKEN BY CONSENSUS – LOWEST COMMON DENOMINA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ut NGOs Have Taken No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jor wildlife/environmental NGOs are focusing more attention on tuna fisher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cus not only on sustainabilit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lso on equity &amp; returns to resource own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-catch and discard issu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10:08:06Z</dcterms:created>
  <dc:creator>Tri-Marine International Pte Ltd</dc:creator>
  <dc:description/>
  <dc:language>en-US</dc:language>
  <cp:lastModifiedBy>Tri-Marine International Pte Ltd</cp:lastModifiedBy>
  <dcterms:modified xsi:type="dcterms:W3CDTF">2008-03-31T01:22:24Z</dcterms:modified>
  <cp:revision>14</cp:revision>
  <dc:subject/>
  <dc:title>SUSTAINABLE TUNA FISHING</dc:title>
</cp:coreProperties>
</file>