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61207-3077-49BD-80A2-ACC6D1E53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F91F0-90A0-49DC-88B6-DDA1B749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D282-178D-4EE8-8A00-FD13F59CC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1A60-B1B3-45B3-9177-1A1B00368F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F02-1698-4D0F-96EB-6C6E61FBC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EF03-5F02-44E2-AD8C-A42713F8C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D3594-31FF-4BC7-8643-8CCF88F3D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2885-15D3-4635-9E12-72E16012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EC94-A6E4-4E66-A6F3-E296906C6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199-A7CF-478E-814A-378E8AEE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A779-70E5-43D9-B775-223494FD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0669-873F-400B-8350-ADB5C2846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50F13-7CC1-4A6F-9B9C-BB65C9252E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shing Patterns of Fleets and EEZ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hn Hamp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ceanic Fisheries Program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ariat of the Pacific Comm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set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e seine vessel oper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line effort, bigeye catch, CP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fl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EE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219320" y="1339920"/>
            <a:ext cx="7075440" cy="54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Set Types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219320" y="1336680"/>
            <a:ext cx="706572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se Seine Oper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747800" y="1266840"/>
            <a:ext cx="5648400" cy="55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opical Longline by Fla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509840" y="1066680"/>
            <a:ext cx="612432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ngline by EEZ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914400" y="1066680"/>
            <a:ext cx="7315200" cy="582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2:49:33Z</dcterms:created>
  <dc:creator>johnh</dc:creator>
  <dc:description/>
  <dc:language>en-US</dc:language>
  <cp:lastModifiedBy>johnh</cp:lastModifiedBy>
  <dcterms:modified xsi:type="dcterms:W3CDTF">2008-03-31T11:21:00Z</dcterms:modified>
  <cp:revision>17</cp:revision>
  <dc:subject/>
  <dc:title>Overview of Tuna Stock Status in the WCPFC Area</dc:title>
</cp:coreProperties>
</file>