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notesSlide3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9.wmf" ContentType="image/x-wmf"/>
  <Override PartName="/ppt/media/image1.wmf" ContentType="image/x-wmf"/>
  <Override PartName="/ppt/media/image9.jpeg" ContentType="image/jpeg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3E905-57C7-4560-8090-96F14F8F7A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ever for BET there is an indication from modelling the fine-scale distribution that population levels of small BET are in fact higher in the central and eastern Pacif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lights the importance of LL fishery for B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ches of small BET dominated by ID/PH and PS FAD/log s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rtual lack of significant BET catches by PS unassociated s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more detailed picture of fishery impacts – reduction in recent biomass attributable to each fish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a more detailed picture for longline by region – showing the concentration of high impact in the tropical regions 3 and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nother way of showing the relative importance of BET LL catches in the tropic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reminder about where we are in relation to Fmsy for BET and the sorts of reductions in fishing mortality required to get us back to an area of comf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stress the SKJ and ALB iss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lide is from some of our tagging work in P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s that there is not great potential to exploit different depth behaviour of the 3 spec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reen rectangle shows the characteristic time window for PS FAD s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highlights the fact that FAD/log sets tend to catch smaller fish than unassociated s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big increase in BET CPUE east of 170W, but most catch comes from the w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kewise for Y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KJ is differ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PUE declines in most quarters east of 170W and becomes more vari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seasonal movement east in Q2 and Q3, back in Q4 and Q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ck line shows coefficient of variation of CPUE as you move 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fore catches of SKJ are more certain in the west which explains why the fishery tends to be where it 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son for higher BET and YFT CPUE in the east could be related to a much shallower thermocline, which might tend to keep juveniles in the surface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3349B-1A49-4299-86AE-4C3A5A945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6E9FC-1062-4EE2-893E-22220A183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3131E-003B-44CC-AAE6-F1EFCCBE8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C6F26-29AA-465B-B6FA-41619BF69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42FA3-790B-4960-AE82-7CD7A072B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69BD8-54E9-4AB7-9775-FF4FDFCD5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37A83-789E-4FBB-8DBC-F9CAA4C41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3CCA9-11D7-417D-B77F-92C53497C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0408F-D49A-4FE0-AD76-0BBF4A1FF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B85FB-F149-464A-AD29-6E1C71E9D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ED660-3016-46B8-AEEC-BDC3E447E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B072D-2CC3-4751-9E21-73B278647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3F6F6-5D9B-436D-BC00-4CDBFD11EE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igeye and Yellowfin Stock Characteristics, Fishery Impacts and Possible Management Approach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hn Hampt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ceanic Fisheries Program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ariat of the Pacific Commun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delled Juvenile Bigeye Distribu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838080" y="1676520"/>
            <a:ext cx="7467840" cy="48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serv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venile bigeye and yellowfin CPUE in purse seine FAD sets increases sharply east of about 17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, because of higher vulnerability associated with shallower thermocline, fleet specific efficiencies, or higher abund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ever, purse seine fishing effort and bigeye and yellowfin catch also declines rapidly east of 17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re FAD-based effort to increase in this region, there would be a large risk of increased catches and fishing mortality of juvenile bigeye and yellowf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e main area of the fishery west of 17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, there appear to be no consistent seasonal or spatial concentrations of either species that could be targeted for clo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urces of Impact – Bigey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609480" y="1981080"/>
            <a:ext cx="8263080" cy="4005360"/>
            <a:chOff x="609480" y="1981080"/>
            <a:chExt cx="8263080" cy="4005360"/>
          </a:xfrm>
        </p:grpSpPr>
        <p:pic>
          <p:nvPicPr>
            <p:cNvPr id="78" name="" descr=""/>
            <p:cNvPicPr/>
            <p:nvPr/>
          </p:nvPicPr>
          <p:blipFill>
            <a:blip r:embed="rId1"/>
            <a:stretch/>
          </p:blipFill>
          <p:spPr>
            <a:xfrm>
              <a:off x="609480" y="2009880"/>
              <a:ext cx="8263080" cy="397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"/>
            <p:cNvSpPr/>
            <p:nvPr/>
          </p:nvSpPr>
          <p:spPr>
            <a:xfrm>
              <a:off x="5638680" y="2133720"/>
              <a:ext cx="0" cy="312408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495680" y="1981080"/>
              <a:ext cx="114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Juveni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715000" y="1981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Adul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flipH="1">
              <a:off x="4038480" y="2166840"/>
              <a:ext cx="45720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477120" y="2173320"/>
              <a:ext cx="53316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ult Biomass Impacts by Fishery – Bigey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838080" y="1600200"/>
            <a:ext cx="7239240" cy="49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ult Biomass Impacts by Fishery/Region – Bigey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533520" y="1941480"/>
            <a:ext cx="8076960" cy="430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457200" y="380880"/>
            <a:ext cx="8229600" cy="599436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6508800" y="3657600"/>
            <a:ext cx="1263600" cy="0"/>
          </a:xfrm>
          <a:prstGeom prst="line">
            <a:avLst/>
          </a:prstGeom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7780320" y="3657240"/>
            <a:ext cx="0" cy="2438280"/>
          </a:xfrm>
          <a:prstGeom prst="line">
            <a:avLst/>
          </a:prstGeom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ield Tradeoffs – Bigeye Tu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2519280" y="1270080"/>
            <a:ext cx="6516720" cy="5586480"/>
            <a:chOff x="2519280" y="1270080"/>
            <a:chExt cx="6516720" cy="5586480"/>
          </a:xfrm>
        </p:grpSpPr>
        <p:pic>
          <p:nvPicPr>
            <p:cNvPr id="93" name="" descr=""/>
            <p:cNvPicPr/>
            <p:nvPr/>
          </p:nvPicPr>
          <p:blipFill>
            <a:blip r:embed="rId1"/>
            <a:srcRect l="0" t="3236" r="0" b="5209"/>
            <a:stretch/>
          </p:blipFill>
          <p:spPr>
            <a:xfrm>
              <a:off x="2519280" y="1270080"/>
              <a:ext cx="6516720" cy="558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 flipH="1">
              <a:off x="4174920" y="1656000"/>
              <a:ext cx="4249800" cy="144360"/>
            </a:xfrm>
            <a:prstGeom prst="line">
              <a:avLst/>
            </a:prstGeom>
            <a:ln w="1584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816360" y="4724640"/>
              <a:ext cx="1368360" cy="405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Arial"/>
                </a:rPr>
                <a:t>MS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&lt;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767640" y="1843200"/>
              <a:ext cx="1368360" cy="405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Arial"/>
                </a:rPr>
                <a:t>MS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&gt;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>
              <a:off x="6624720" y="1771920"/>
              <a:ext cx="1944720" cy="2950920"/>
            </a:xfrm>
            <a:prstGeom prst="line">
              <a:avLst/>
            </a:prstGeom>
            <a:ln w="1584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"/>
          <p:cNvSpPr/>
          <p:nvPr/>
        </p:nvSpPr>
        <p:spPr>
          <a:xfrm>
            <a:off x="250920" y="1413000"/>
            <a:ext cx="2050920" cy="46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uming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tatu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o for Indonesia &amp; Philipp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rge reductions in effort required to achieve Fmsy for B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L 50%, PS 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L 40%, PS 1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L 30%, PS 3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L 20%, PS 4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L 10%, PS &gt;5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L 0%, PS &gt;&gt;5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urces of Impact – Yellowf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533520" y="1657440"/>
            <a:ext cx="8291520" cy="4011480"/>
            <a:chOff x="533520" y="1657440"/>
            <a:chExt cx="8291520" cy="4011480"/>
          </a:xfrm>
        </p:grpSpPr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533520" y="1657440"/>
              <a:ext cx="8291520" cy="401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4876920" y="2057400"/>
              <a:ext cx="0" cy="281952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733920" y="1905120"/>
              <a:ext cx="114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Juveni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952880" y="19051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Adul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flipH="1">
              <a:off x="3276720" y="2090880"/>
              <a:ext cx="45720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715000" y="2097000"/>
              <a:ext cx="53352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ult Biomass Impacts by Fishery - Yellowf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838080" y="1600200"/>
            <a:ext cx="7086600" cy="483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ult Biomass Impacts by Fishery/Region - Yellowf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57200" y="1830240"/>
            <a:ext cx="8001000" cy="426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sentation 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t type patterns (purse sein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tial and temporal patterns (purse sein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ailed fishery impacts (all fisheri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agement approaches – what (might) work and what won’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ummary of Fishery Impact Observ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gey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all fishery impacts on adult biomass are high, with adult biomass &lt;20% of unexploited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ngline fishery currently responsible for ~50% of total fishery impact on adult biom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impacts are from catches of small juveniles – PS FAD/log sets and ID/PH fishe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clear that management measures need to target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bo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ongline and small juvenile se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acts are high only in the tropical region and this is where management should logically be targ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ummary of Fishery Impact Observ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ellowf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all fishery impacts on adult biomass are moderate, with adult biomass ~30% of unexploited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acts are more evenly spread across fisheries – most significant are ID, PH miscellaneous small-fish fisheries, PH handline, PS FAD/log, PS unassociated and long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ke bigeye, impacts are high only in the tropical reg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agement measures that are effective in reducing fishing mortality for bigeye will also reduce the currently significant risk that overfishing is occurring for yellowf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tential Management Measures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What might work from a scientific point of view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jective is to reduce fishing mortality of bigeye and yellowf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the proportion of the stock harvested, fishery imp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important policy objective is also to minimize impacts on PS skipjack and LL albacore (South Pacific) catc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tential Longline Meas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rect control of effort or cat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tch control (TA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advantage is that TAC would need to respond to changes in population size resulting from recruitment, e.g. the TAC under current (high levels of recruitment) might be ~80,000 mt, but ~45,000 mt under long-term average recrui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itoring impl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tential Longline Meas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3059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ffort control (TA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vantage is that the same TAE can be applied across variable recruitment reg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to guard against “effort creep” by periodic revision of the TA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ropriate to restrict spatially to the tropical area, e.g. 2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 - 1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st longline impacts occur in this z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uld avoid unnecessary restrictions on fisheries targeting albacore (South Pacific) and swordfi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would need to monitor non-tropical fisheries for any increase in bigeye target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rious allocation options for TAEs or T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tential Longline Meas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possibiliti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losed area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unlikely to work unless very large as effort could shift to open ar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losed season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uld possibly work but would need to be long enough so that vessels could not simply coincide regular travelling or down time, i.e. it would need to result in 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re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ecrease in fishing effort (hooks or sets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uld still need total effort restrictions in either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tential Purse Seine Meas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tch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.e. have overall or vessel-specific quotas or allowable % of catch for bigeye and small yellowfin (essentially treat as a by-catc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uld need to be set low enough to avoid over-fishing during low-recruitment peri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uld require real-time monitoring, probably by observer-based samp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0% observer cove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ce quota reached, stop fishing (FAD/log sets) for the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ts onus on industry to work out how to avoid bigeye and small yellowf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tential Purse Seine Meas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ort control (indiscriminant wrt set typ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sentially what we have now with CMM-2005-01 (national waters) and CMM-2006-01 (high sea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not achieve bigeye/yellowfin conservation objectives without severely impacting skipjack catc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not guarantee level of impact on bigeye without any reference to set ty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tential Purse Seine Meas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ffort control targeting FAD/log 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ld allow reduction of small bigeye and yellowfin mortality with less impact on skipjack cat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 objective might be to move from current situation of 40-60% FAD/log sets to 20-3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ous ways it might be impleme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osure period for FAD/log sets (as long as frequency of FAD/log sets in open period does not increase, total effort restrictions still appl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entive schemes within a comprehensive VDS – free or heavily discounted days for non-FAD/log oper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options require 100% observer cover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advantage: reduced efficiency (fuel), higher costs. Risk is that some operators would not fish at all, with resulting impact on skipjack cat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tential Purse Seine Meas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possibiliti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 depth restri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trictions on time of 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most all FAD/log sets are made in pre-dawn ho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trictions on mesh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effective in allowing escape of small bigeye and yellowfin, skipjack of similar size would also likely esca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on phase – lower bigeye catches on full mo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rse Seine Set Ty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associated sets – on free sch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quently dominated by SKJ or YFT of restricted size r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gnificant quantities of small BET are relatively uncomm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ifting/anchored FAD and natural log s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ually comprise a mix of species and sizes, with small sizes domina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tential Purse Seine Meas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457200" y="1371600"/>
            <a:ext cx="8000640" cy="5105160"/>
            <a:chOff x="457200" y="1371600"/>
            <a:chExt cx="8000640" cy="5105160"/>
          </a:xfrm>
        </p:grpSpPr>
        <p:pic>
          <p:nvPicPr>
            <p:cNvPr id="133" name="" descr=""/>
            <p:cNvPicPr/>
            <p:nvPr/>
          </p:nvPicPr>
          <p:blipFill>
            <a:blip r:embed="rId1"/>
            <a:stretch/>
          </p:blipFill>
          <p:spPr>
            <a:xfrm>
              <a:off x="457200" y="1371600"/>
              <a:ext cx="8000640" cy="510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"/>
            <p:cNvSpPr/>
            <p:nvPr/>
          </p:nvSpPr>
          <p:spPr>
            <a:xfrm>
              <a:off x="2140560" y="2230200"/>
              <a:ext cx="495360" cy="3383640"/>
            </a:xfrm>
            <a:prstGeom prst="rect">
              <a:avLst/>
            </a:prstGeom>
            <a:noFill/>
            <a:ln w="19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tential Purse Seine Meas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possibiliti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 depth restri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trictions on time of 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most all FAD/log sets are made in pre-dawn ho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trictions on mesh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effective in allowing escape of small bigeye and yellowfin, skipjack of similar size would also likely esca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on phase – lower bigeye catches on full mo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are we left with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ngline effort restrictions in the trop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rse seine effort control in the trop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total purse seine effor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additional measures to (a) encourage or (b) require some transfer of FAD/log effort to unassociated set ef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le of processors in providing incen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ility of operators to choose sets based on school character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sibly consideration of measures to prevent any expansion of FAD-based effort east of ~17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ssel-specific catch quotas for small bigeye and yellowf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for meaningful restrictions on small bigeye and yellowfin catches in Indonesia/Philipp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rse Seine Set Ty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1828800"/>
            <a:ext cx="8915400" cy="34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613320" y="4600440"/>
            <a:ext cx="5302080" cy="22575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657600" y="228600"/>
            <a:ext cx="5311800" cy="22683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3676680" y="2362320"/>
            <a:ext cx="5319720" cy="226836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3124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sh Size by Set Ty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1920" y="1447920"/>
            <a:ext cx="3124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r fish from unassociated sets for each spe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urse Seine Spatial &amp; Seasonal Pattern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geye (FAD set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rcRect l="0" t="8360" r="0" b="8017"/>
          <a:stretch/>
        </p:blipFill>
        <p:spPr>
          <a:xfrm>
            <a:off x="1600200" y="1219320"/>
            <a:ext cx="6248520" cy="22860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1676520" y="3514680"/>
            <a:ext cx="5790960" cy="33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urse Seine Spatial &amp; Seasonal Pattern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llowfin (FAD set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676520" y="3514680"/>
            <a:ext cx="5790960" cy="33433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rcRect l="0" t="8360" r="0" b="8017"/>
          <a:stretch/>
        </p:blipFill>
        <p:spPr>
          <a:xfrm>
            <a:off x="1600200" y="1219320"/>
            <a:ext cx="62485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urse Seine Spatial &amp; Seasonal Pattern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kipjack (All set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619280" y="3521160"/>
            <a:ext cx="5772240" cy="33811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rcRect l="0" t="8360" r="0" b="8017"/>
          <a:stretch/>
        </p:blipFill>
        <p:spPr>
          <a:xfrm>
            <a:off x="1600200" y="1219320"/>
            <a:ext cx="62485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rmocline Dep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rcRect l="9278" t="31255" r="0" b="0"/>
          <a:stretch/>
        </p:blipFill>
        <p:spPr>
          <a:xfrm>
            <a:off x="378000" y="1673280"/>
            <a:ext cx="8494560" cy="4203720"/>
          </a:xfrm>
          <a:prstGeom prst="rect">
            <a:avLst/>
          </a:prstGeom>
          <a:ln w="255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22:49:33Z</dcterms:created>
  <dc:creator>johnh</dc:creator>
  <dc:description/>
  <dc:language>en-US</dc:language>
  <cp:lastModifiedBy>johnh</cp:lastModifiedBy>
  <dcterms:modified xsi:type="dcterms:W3CDTF">2008-03-30T04:27:07Z</dcterms:modified>
  <cp:revision>27</cp:revision>
  <dc:subject/>
  <dc:title>Overview of Tuna Stock Status in the WCPFC Area</dc:title>
</cp:coreProperties>
</file>