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86B4-19A8-4DCF-8E5B-747C18656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8722-21C7-4266-8C96-E3145A9DA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E897-BA3C-4F23-9691-1920C0FE2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0479-DC93-405A-99D0-A4B5A9D51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1B92-7B42-4CE6-9665-392EB89D1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179C-1A65-4689-82DC-B0F91407A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6020-2C8B-4589-85E8-7AE9E6546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164F-75F1-432E-965B-976E6C3D7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0A24-F72D-41E3-B726-190481AD7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B03B-7539-48A2-BEDF-84E044BB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70A3-C1AC-4E60-831A-738A5061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C844-5AF0-4C8D-A48D-BB07D95D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77A69-118E-47DB-B369-1BE6CF663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Bookman Old Style"/>
              </a:rPr>
              <a:t>SUSTAINABLE TUNA FIS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ookman Old Style"/>
              </a:rPr>
              <a:t>TROUBLE BRE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GOs are campaigning aggressively in the market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ealing to retailers and consum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can expect more of the s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rtification is a growth indust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 least six certification organis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can expect more – a sure sign that their services are in dem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ermarkets are listening and acting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insbury &amp; Waitrose in the 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l Mart in the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major Brands have heard the me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umers are being given negative messages about the health of tuna stoc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the only messages are negative many will stop buy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tuna market will dec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STAINABILITY IS A MAJOR ISSUE FOR THE NEXT DECADE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F WE DON’T ACT NOW OTHERS WILL ACT FOR 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619280" y="760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servation Measures We Ne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acity Limitation – well capacity or vessel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fective enforcement of the V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tal closure 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oating object closure, with 100% observer coverage WITH NO EXEMP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asure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vessels in the Commission Area to regi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vessels to operate Commission VMS at all ti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me Thoughts on F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y fuel efficient way of catching – much ‘greener’ than school fi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ats cannot simply switch back to school fi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chools are not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less all FO’s are lifted, they will keep aggrega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re on F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some vessels a FAD closure would be the same as total clos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 fuel over $1,000/tonne some boats won’t go fi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reduction of catch and supply to processors could be substant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we do not agree effective conservation measures soon, tuna markets may go into decline as consumers “turn off” tu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at would have dire consequences for every one of the fishery’s participa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clining Re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TCHES OF YELLOWFIN AND BIGEYE ARE DECLINING IN EVERY OC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7240" y="69840"/>
          <a:ext cx="9015480" cy="644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0" y="69840"/>
                    <a:ext cx="9015480" cy="64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84240" y="84240"/>
          <a:ext cx="9016920" cy="644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240" y="84240"/>
                    <a:ext cx="9016920" cy="64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440" y="303120"/>
          <a:ext cx="9139320" cy="60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303120"/>
                    <a:ext cx="9139320" cy="60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0" y="84240"/>
          <a:ext cx="9172440" cy="646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4240"/>
                    <a:ext cx="9172440" cy="64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orld Wid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GEYE &amp; YELLOWFIN ARE CONSIDERED TO BE EITHER FULLY OR OVER EXPLOITED IN EVERY OCE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FMOS: POOR REPUT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ABLE TO AGREE LONG TERM CONSERVATION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ABLE TO ENFORCE WHAT MEASURES THEY DO EN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SIONS TAKEN BY CONSENSUS – LOWEST COMMON DENOMIN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ut NGOs Have Taken No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jor wildlife/environmental NGOs are focusing more attention on tuna fishe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cus not only on sustainabil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so on equity &amp; returns to resource ow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-catch and discard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10:08:06Z</dcterms:created>
  <dc:creator>Tri-Marine International Pte Ltd</dc:creator>
  <dc:description/>
  <dc:language>en-US</dc:language>
  <cp:lastModifiedBy>Tri-Marine International Pte Ltd</cp:lastModifiedBy>
  <dcterms:modified xsi:type="dcterms:W3CDTF">2008-03-31T01:22:24Z</dcterms:modified>
  <cp:revision>14</cp:revision>
  <dc:subject/>
  <dc:title>SUSTAINABLE TUNA FISHING</dc:title>
</cp:coreProperties>
</file>