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48B5-6221-4346-8CFC-C63B13399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3032-405D-4DBA-B8D3-7A1DAA16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33EE-6831-4FB8-A111-E47834392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7FAA-FE07-4076-9EE9-B7D860D39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A86F-A28C-4663-AC2F-9EB3AE94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56B9-DA1B-4C93-90C8-1317131E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8ADB-4CC0-4A05-8D28-4B534DC7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1FB0-BDCD-402B-92EC-621D03B5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5EE7-7E63-4899-AAA6-D79CE1E7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2F4C-F828-48D2-92F0-FF6D533F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9D16-77C3-4D9D-B1DB-66C64162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970D-CD2A-4362-AD85-B03BA4A1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FE00-6C09-400A-87E8-392B97CA1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here to from her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we have learnt so fa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isting WCPFC measures (CMM 2006-01 &amp; 2005-01) established effort caps – but insufficient to address overfi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 management measures are being implemented by PNA members within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month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eement that require ‘complimentary’ measures in the high seas (achieve equivalent effect but not necessarily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ncip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s should be established across PS and LL to be effective &amp; not pose disproportional burden on fish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m to minimise impacts on skipjack and albacore c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o act at the next meeting ……no compromise on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ggested PS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 high seas between 2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N and 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 and compatible with EEZ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effort limit (vess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effort limit (days) monitored through VMS (similar to V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catch limit (responsive to population size chan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On all PS effort or FAD/log se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3 month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100% Observer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taged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ggested PS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ure of high s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ure of high seas p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S discussion on co-operative management and 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closure say 3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ggested PS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native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 depth restr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s on time of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s on mesh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on phase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tential LL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 high seas between 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N and 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 and compatible with EEZ meas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effort limit (vessel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effort limit (days) monitored through VMS (similar to VDS-like sche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catch lim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25% reduction  in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losed areas/seasons (in addition to above measu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bserver 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ure of high seas pocke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ures of high seas until measures develop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address vulnerability in Eastern sec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effort from non-me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UU eff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 Pressure/ Certif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ture certification pressures/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CS arran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neral additional issu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s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of th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g-eye and yellowfin measure which include compatible measure  eg VDS on High s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pirational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Ent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2:15:46Z</dcterms:created>
  <dc:creator>Higgins Amy</dc:creator>
  <dc:description/>
  <dc:language>en-US</dc:language>
  <cp:lastModifiedBy>SANTANA LARA</cp:lastModifiedBy>
  <dcterms:modified xsi:type="dcterms:W3CDTF">2008-04-14T06:35:43Z</dcterms:modified>
  <cp:revision>19</cp:revision>
  <dc:subject/>
  <dc:title>Where to from here?</dc:title>
</cp:coreProperties>
</file>