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6E36-5125-42D5-839F-66FBF4FAA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40FDA-B502-4C21-9828-59FD81A92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67B5-0A2B-4279-84F0-CF11D2EE4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4066-FB61-4F08-91CB-AB50430CE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57639-F387-4B33-A200-7319EBAA0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111FD-8C93-476B-9FB8-615C84597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9B497-C41C-4429-95D9-9F6124105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DE8D1-EF70-4232-A500-81A98E84C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1879D-7427-4E25-A574-7F499591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3FB5A-88C3-45C1-A528-83F14ED65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CE95AC-4ACD-4C2A-A2F2-A47B4B85D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3D11-DF88-4C1C-AF57-936210B52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72EEB-8661-4674-9D18-575B9EB84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070FE-22B5-45B8-B429-BC1A6A49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0F30D-A00F-488F-8043-533D2E6BF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3857E-7FEA-4462-BE2E-7208BA7BC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EF9D3-D2DE-41A4-BFA6-5A99E4412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482C6-19A0-4D70-B608-2B0A9E01A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0DCB7-EDA4-405D-A3EF-2FBCF340B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3CA22-BD46-4B44-83DF-D7FB7D59A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0FFD2-3BBB-4857-8E8E-D88D7170A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FA49-40F7-41DB-AD8C-09AFB0CC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7B48-0940-452A-997E-64261253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6FCC-70E3-445C-97AC-C041AD9C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BC2BF-BFDB-44AA-9F2A-403F5D6BE31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A6309-9631-4BC9-A665-9CB371EB3A5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Chairs meeting WCPFC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258920" y="1916280"/>
            <a:ext cx="640080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elco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Leaving Gua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wo key issues for 200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hy an informal me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Structure of the mee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What are the outcomes of the meet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Leaving Guam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439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Unable to deliver on Big eye and yellowfin res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Expectation from civil society that we wi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A lot of pressure to join the Commission and exploit the resources of the WCPFC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Lack of understanding of what it was we were trying to manage in its full sense. PS and L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to try something difference to get a result in Bus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The two key deliverabl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A Conservation measure for big-eye and yellowfin tuna that deals effectively with reducing the catch on these speci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atible measures on the high seas…..what does it mea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licated by Article 10 and discussion on rights of small island stat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licated by the desire to continue to harvest skipjack at current level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Tahoma"/>
              </a:rPr>
              <a:t>Complicated by a number of issues people are uncomfortable talking about i.e. how we interpret CM’s, what's a compatible measure, what do we want from the fishery et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Structure of the meet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New agend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Presentations and workshop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Industry presentations why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Informal meeting no Commission stand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Not looking for agreement or resolution or a draft meas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Chair may draft afterwards to begin a formal proce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Goodwil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400" spc="-1" strike="noStrike">
                <a:solidFill>
                  <a:srgbClr val="e5ffff"/>
                </a:solidFill>
                <a:latin typeface="Tahoma"/>
              </a:rPr>
              <a:t>Outcom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Getting to Bus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a workable resolution early in the pro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to understand how to manage this fishe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Need to understand what compatible measures actually me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This meeting should develop a greater understanding of the complexity of our challeng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Tahoma"/>
              </a:rPr>
              <a:t>I am happy just to have the discussion with you it can only help our understanding and contribute to a resolu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Tahoma"/>
              </a:rPr>
              <a:t>Thanks for coming - your participation is  genuinely apprecia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31T10:44:00Z</dcterms:created>
  <dc:creator>Computer</dc:creator>
  <dc:description/>
  <dc:language>en-US</dc:language>
  <cp:lastModifiedBy>Computer</cp:lastModifiedBy>
  <dcterms:modified xsi:type="dcterms:W3CDTF">2008-03-31T11:12:53Z</dcterms:modified>
  <cp:revision>5</cp:revision>
  <dc:subject/>
  <dc:title>Chairs meeting WCPFC</dc:title>
</cp:coreProperties>
</file>