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9.wmf" ContentType="image/x-wmf"/>
  <Override PartName="/ppt/media/image1.wmf" ContentType="image/x-wmf"/>
  <Override PartName="/ppt/media/image9.jpeg" ContentType="image/jpe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53108-8183-4DBE-A128-EC6A75553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ever for BET there is an indication from modelling the fine-scale distribution that population levels of small BET are in fact higher in the central and eastern Pacif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ghlights the importance of LL fishery for B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ches of small BET dominated by ID/PH and PS FAD/log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rtual lack of significant BET catches by PS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re detailed picture of fishery impacts – reduction in recent biomass attributable to each fish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a more detailed picture for longline by region – showing the concentration of high impact in the tropical regions 3 and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nother way of showing the relative importance of BET LL catches in the trop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reminder about where we are in relation to Fmsy for BET and the sorts of reductions in fishing mortality required to get us back to an area of comf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stress the SKJ and ALB issu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lide is from some of our tagging work in P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s that there is not great potential to exploit different depth behaviour of the 3 spe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green rectangle shows the characteristic time window for PS FA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highlights the fact that FAD/log sets tend to catch smaller fish than unassociated s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big increase in BET CPUE east of 170W, but most catch comes from the w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wise for YF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KJ is diffe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E declines in most quarters east of 170W and becomes more vari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seasonal movement east in Q2 and Q3, back in Q4 and Q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ck line shows coefficient of variation of CPUE as you mov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fore catches of SKJ are more certain in the west which explains why the fishery tends to be where it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son for higher BET and YFT CPUE in the east could be related to a much shallower thermocline, which might tend to keep juveniles in the surface lay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CB17A-750A-4724-B9F3-66118792C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B1BAF-8CEC-40B3-94F1-7B438C600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7880-F19A-4D77-8D35-DB4573D74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1814-1085-4BF9-86A2-6A6B18BF9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7291-30D8-4F24-B224-B4F5CD110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3D941-9616-4171-8584-941541919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119F9-0741-47F4-AB80-58DD07EAE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FCE9-CC67-4655-A92D-6FB752A88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D9D3-5B55-4DE4-958D-1F4A9B0A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371-DA93-4A34-BC8B-D70B9EFAE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4431-FCE6-420B-87AF-1F51923B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8BA6-0FBB-4A17-9B1A-6A75B1DD0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AD8F-A01C-47F6-ADF6-D5C799D9E1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igeye and Yellowfin Stock Characteristics, Fishery Impacts and Possible Management Approach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delled Juvenile Bigeye Distribu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467840" cy="48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serv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venile bigeye and yellowfin CPUE in purse seine FAD sets increases sharply east of about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because of higher vulnerability associated with shallower thermocline, fleet specific efficiencies, or higher abund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purse seine fishing effort and bigeye and yellowfin catch also declines rapidly ea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re FAD-based effort to increase in this region, there would be a large risk of increased catches and fishing mortality of juvenile bigeye and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main area of the fishery west of 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, there appear to be no consistent seasonal or spatial concentrations of either species that could be targeted for clo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Bigey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609480" y="1981080"/>
            <a:ext cx="8263080" cy="4005360"/>
            <a:chOff x="609480" y="1981080"/>
            <a:chExt cx="8263080" cy="400536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609480" y="2009880"/>
              <a:ext cx="8263080" cy="397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638680" y="2133720"/>
              <a:ext cx="0" cy="312408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495680" y="198108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715000" y="1981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4038480" y="216684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477120" y="2173320"/>
              <a:ext cx="53316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239240" cy="49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– Bigey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533520" y="1941480"/>
            <a:ext cx="8076960" cy="430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5994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6508800" y="3657600"/>
            <a:ext cx="1263600" cy="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7780320" y="3657240"/>
            <a:ext cx="0" cy="2438280"/>
          </a:xfrm>
          <a:prstGeom prst="line">
            <a:avLst/>
          </a:prstGeom>
          <a:ln w="255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Yield Tradeoffs – Bigeye Tu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519280" y="1270080"/>
            <a:ext cx="6516720" cy="5586480"/>
            <a:chOff x="2519280" y="1270080"/>
            <a:chExt cx="6516720" cy="55864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rcRect l="0" t="3236" r="0" b="5209"/>
            <a:stretch/>
          </p:blipFill>
          <p:spPr>
            <a:xfrm>
              <a:off x="2519280" y="1270080"/>
              <a:ext cx="6516720" cy="558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 flipH="1">
              <a:off x="4174920" y="1656000"/>
              <a:ext cx="4249800" cy="14436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816360" y="472464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l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67640" y="1843200"/>
              <a:ext cx="13683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/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r>
                <a:rPr b="0" i="1" lang="en-US" sz="1800" spc="-1" strike="noStrike" baseline="-25000">
                  <a:solidFill>
                    <a:srgbClr val="000000"/>
                  </a:solidFill>
                  <a:latin typeface="Arial"/>
                </a:rPr>
                <a:t>MSY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&gt;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624720" y="1771920"/>
              <a:ext cx="1944720" cy="2950920"/>
            </a:xfrm>
            <a:prstGeom prst="line">
              <a:avLst/>
            </a:prstGeom>
            <a:ln w="1584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"/>
          <p:cNvSpPr/>
          <p:nvPr/>
        </p:nvSpPr>
        <p:spPr>
          <a:xfrm>
            <a:off x="250920" y="1413000"/>
            <a:ext cx="2050920" cy="46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uming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tatu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o for Indonesia &amp; Philipp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rge reductions in effort required to achieve Fmsy for B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50%, PS 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40%, PS 1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30%, PS 3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20%, PS 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10%, PS 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 0%, PS &gt;&gt;5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urces of Impact – Yellowf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520" y="1657440"/>
            <a:ext cx="8291520" cy="4011480"/>
            <a:chOff x="533520" y="1657440"/>
            <a:chExt cx="8291520" cy="401148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533520" y="1657440"/>
              <a:ext cx="8291520" cy="401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876920" y="2057400"/>
              <a:ext cx="0" cy="2819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733920" y="1905120"/>
              <a:ext cx="114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Juven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952880" y="19051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Adul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3276720" y="2090880"/>
              <a:ext cx="45720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715000" y="2097000"/>
              <a:ext cx="533520" cy="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838080" y="1600200"/>
            <a:ext cx="7086600" cy="483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dult Biomass Impacts by Fishery/Region - Yellowf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57200" y="1830240"/>
            <a:ext cx="8001000" cy="42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t type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tial and temporal patterns (purse sein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ailed fishery impacts (all fisher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agement approaches – what (might) work and what wo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gey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high, with adult biomass &lt;2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ngline fishery currently responsible for ~50% of total fishery impact on adult bioma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impacts are from catches of small juveniles – PS FAD/log sets and ID/PH fishe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clear that management measures need to target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bo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ngline and small juvenile sec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high only in the tropical region and this is where management should logically be targ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ummary of Fishery Impact Observ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fishery impacts on adult biomass are moderate, with adult biomass ~30% of unexploited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acts are more evenly spread across fisheries – most significant are ID, PH miscellaneous small-fish fisheries, PH handline, PS FAD/log, PS unassociated and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bigeye, impacts are high only in the tropical reg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measures that are effective in reducing fishing mortality for bigeye will also reduce the currently significant risk that overfishing is occurring for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otential Management Measures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hat might work from a scientific point of view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jective is to reduce fishing mortality of bigeye and yellowf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the proportion of the stock harvested, fishery imp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portant policy objective is also to minimize impacts on PS skipjack and LL albacore (South Pacific)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rect control of effort or cat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tch control (TA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advantage is that TAC would need to respond to changes in population size resulting from recruitment, e.g. the TAC under current (high levels of recruitment) might be ~80,000 mt, but ~45,000 mt under long-term average recrui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ing i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(TA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 is that the same TAE can be applied across variable recruit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to guard against “effort creep” by periodic revision of the T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ropriate to restrict spatially to the tropical area, e.g. 2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 - 1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st longline impacts occur in this z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uld avoid unnecessary restrictions on fisheries targeting albacore (South Pacific) and swordfi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would need to monitor non-tropical fisheries for any increase in bigeye targe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rious allocation options for TAEs or T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Longl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area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unlikely to work unless very large as effort could shift to open ar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osed seasons: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ld possibly work but would need to be long enough so that vessels could not simply coincide regular travelling or down time, i.e. it would need to result in 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crease in fishing effort (hooks or set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uld still need total effort restrictions in either c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tch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.e. have overall or vessel-specific quotas or allowable % of catch for bigeye and small yellowfin (essentially treat as a by-ca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need to be set low enough to avoid over-fishing during low-recruitment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uld require real-time monitoring, probably by observer-based samp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ce quota reached, stop fishing (FAD/log sets) for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ts onus on industry to work out how to avoid bigeye and small yellow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ort control (indiscriminant wrt set typ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sentially what we have now with CMM-2005-01 (national waters) and CMM-2006-01 (high se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achieve bigeye/yellowfin conservation objectives without severely impacting skipjack cat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not guarantee level of impact on bigeye without any reference to set 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fort control targeting FAD/log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allow reduction of small bigeye and yellowfin mortality with less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 objective might be to move from current situation of 40-60% FAD/log sets to 20-3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s it might be impleme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osure period for FAD/log sets (as long as frequency of FAD/log sets in open period does not increase, total effort restrictions still appl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entive schemes within a comprehensive VDS – free or heavily discounted days for non-FAD/log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ptions require 100% observer cove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advantage: reduced efficiency (fuel), higher costs. Risk is that some operators would not fish at all, with resulting impact on skipjack catch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associated sets – on free sch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quently dominated by SKJ or YFT of restricted size r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quantities of small BET are relatively uncomm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ifting/anchored FAD and natural log s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ually comprise a mix of species and sizes, with small sizes domin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457200" y="1371600"/>
            <a:ext cx="8000640" cy="5105160"/>
            <a:chOff x="457200" y="1371600"/>
            <a:chExt cx="8000640" cy="5105160"/>
          </a:xfrm>
        </p:grpSpPr>
        <p:pic>
          <p:nvPicPr>
            <p:cNvPr id="133" name="" descr=""/>
            <p:cNvPicPr/>
            <p:nvPr/>
          </p:nvPicPr>
          <p:blipFill>
            <a:blip r:embed="rId1"/>
            <a:stretch/>
          </p:blipFill>
          <p:spPr>
            <a:xfrm>
              <a:off x="457200" y="1371600"/>
              <a:ext cx="8000640" cy="510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2140560" y="2230200"/>
              <a:ext cx="495360" cy="3383640"/>
            </a:xfrm>
            <a:prstGeom prst="rect">
              <a:avLst/>
            </a:prstGeom>
            <a:noFill/>
            <a:ln w="1908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tential Purse Seine Meas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possibiliti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 depth restri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time of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all FAD/log sets are made in pre-dawn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trictions on mesh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effective in allowing escape of small bigeye and yellowfin, skipjack of similar size would also likely e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on phase – lower bigeye catches on full mo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are we left with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ngline effort restrictions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rse seine effort control in the trop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otal purse seine eff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dditional measures to (a) encourage or (b) require some transfer of FAD/log effort to unassociated set ef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processors in providing inc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of operators to choose sets based on school characteris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 consideration of measures to prevent any expansion of FAD-based effort east of ~17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ssel-specific catch quotas for small bigeye and yellowf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meaningful restrictions on small bigeye and yellowfin catches in Indonesia/Philipp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8915400" cy="34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613320" y="4600440"/>
            <a:ext cx="5302080" cy="225756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657600" y="228600"/>
            <a:ext cx="5311800" cy="2268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3676680" y="2362320"/>
            <a:ext cx="5319720" cy="226836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sh Size by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1920" y="144792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fish from unassociated sets for each spec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geye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ellowfin (FAD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676520" y="3514680"/>
            <a:ext cx="5790960" cy="334332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urse Seine Spatial &amp; Seasonal Pattern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kipjack (All set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619280" y="3521160"/>
            <a:ext cx="5772240" cy="33811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rcRect l="0" t="8360" r="0" b="8017"/>
          <a:stretch/>
        </p:blipFill>
        <p:spPr>
          <a:xfrm>
            <a:off x="1600200" y="1219320"/>
            <a:ext cx="6248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rmocline Dep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rcRect l="9278" t="31255" r="0" b="0"/>
          <a:stretch/>
        </p:blipFill>
        <p:spPr>
          <a:xfrm>
            <a:off x="378000" y="1673280"/>
            <a:ext cx="8494560" cy="4203720"/>
          </a:xfrm>
          <a:prstGeom prst="rect">
            <a:avLst/>
          </a:prstGeom>
          <a:ln w="2556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0T04:27:07Z</dcterms:modified>
  <cp:revision>27</cp:revision>
  <dc:subject/>
  <dc:title>Overview of Tuna Stock Status in the WCPFC Area</dc:title>
</cp:coreProperties>
</file>