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2323-A0BE-4BB8-8927-2A3BED8A5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0969-66E4-4EA5-8D5D-3F628CEE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1F2-C6CD-4FBC-8FFA-1D0B950613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1ACA-2450-4463-A289-763630A1C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1221-6CFE-4AA6-95DB-0977B32CB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CBF1-2E67-4ECE-A27E-23D7CAE9E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C973-6655-4753-8E49-957E52FEB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0F3D-3230-4288-B239-BFC3CA112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B0280-5CBD-459E-91B8-2AA1929DC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AB4D-6005-4639-8587-1F191096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C573-9915-4918-9AAE-531C6E056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AC0E-3AD1-43CB-ADD3-7CB406ED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4008-1E54-4420-9E77-AF53FCCB50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Bookman Old Style"/>
              </a:rPr>
              <a:t>SUSTAINABLE TUNA FIS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Bookman Old Style"/>
              </a:rPr>
              <a:t>TROUBLE BRE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GOs are campaigning aggressively in the marketpl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ppealing to retailers and consum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of the sa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rtification is a growth indust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t least six certification organis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can expect more – a sure sign that their services are in dem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permarkets are listening and acting e.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insbury &amp; Waitrose in the U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al Mart in the U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major Brands have heard the mes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on in the Markets 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umers are being given negative messages about the health of tuna stoc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the only messages are negative many will stop buy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tuna market will decli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USTAINABILITY IS A MAJOR ISSUE FOR THE NEXT DECADE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F WE DON’T ACT NOW OTHERS WILL ACT FOR 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619280" y="760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servation Measures We Ne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pacity Limitation – well capacity or vessel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ffective enforcement of the V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otal closure 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oating object closure, with 100% observer coverage WITH NO EXEMP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asures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in the Commission Area to regi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l vessels to operate Commission VMS at all ti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ome Thoughts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ery fuel efficient way of catching – much ‘greener’ than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oats cannot simply switch back to school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schools are not t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less all FO’s are lifted, they will keep aggregat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ore on FA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r some vessels a FAD closure would be the same as total clos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ith fuel over $1,000/tonne some boats won’t go fish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reduction of catch and supply to processors could be substant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ALL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f we do not agree effective conservation measures soon, tuna markets may go into decline as consumers “turn off” tu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at would have dire consequences for every one of the fishery’s participa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Declining Resour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TCHES OF YELLOWFIN AND BIGEYE ARE DECLINING IN EVERY OCE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57240" y="69840"/>
          <a:ext cx="901548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240" y="69840"/>
                    <a:ext cx="901548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4240" y="84240"/>
          <a:ext cx="9016920" cy="6443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4240" y="84240"/>
                    <a:ext cx="9016920" cy="64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440" y="303120"/>
          <a:ext cx="9139320" cy="6005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0" y="303120"/>
                    <a:ext cx="9139320" cy="600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84240"/>
          <a:ext cx="9172440" cy="6468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4240"/>
                    <a:ext cx="9172440" cy="64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orld Wide 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GEYE &amp; YELLOWFIN ARE CONSIDERED TO BE EITHER FULLY OR OVER EXPLOITED IN EVERY OCE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FMOS: POOR REPUT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AGREE LONG TERM CONSERVATION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NABLE TO ENFORCE WHAT MEASURES THEY DO ENA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SIONS TAKEN BY CONSENSUS – LOWEST COMMON DENOM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But NGOs Have Taken No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jor wildlife/environmental NGOs are focusing more attention on tuna fishe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cus not only on sustainabilit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so on equity &amp; returns to resource own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y-catch and discard issu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10:08:06Z</dcterms:created>
  <dc:creator>Tri-Marine International Pte Ltd</dc:creator>
  <dc:description/>
  <dc:language>en-US</dc:language>
  <cp:lastModifiedBy>Tri-Marine International Pte Ltd</cp:lastModifiedBy>
  <dcterms:modified xsi:type="dcterms:W3CDTF">2008-03-31T01:22:24Z</dcterms:modified>
  <cp:revision>14</cp:revision>
  <dc:subject/>
  <dc:title>SUSTAINABLE TUNA FISHING</dc:title>
</cp:coreProperties>
</file>