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0.wmf" ContentType="image/x-wmf"/>
  <Override PartName="/ppt/media/image2.png" ContentType="image/png"/>
  <Override PartName="/ppt/media/image8.wmf" ContentType="image/x-wmf"/>
  <Override PartName="/ppt/media/image13.png" ContentType="image/png"/>
  <Override PartName="/ppt/media/image12.wmf" ContentType="image/x-wmf"/>
  <Override PartName="/ppt/media/image4.png" ContentType="image/png"/>
  <Override PartName="/ppt/media/image7.wmf" ContentType="image/x-wmf"/>
  <Override PartName="/ppt/media/image21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9.wmf" ContentType="image/x-wmf"/>
  <Override PartName="/ppt/media/image15.wmf" ContentType="image/x-wmf"/>
  <Override PartName="/ppt/media/image1.jpeg" ContentType="image/jpeg"/>
  <Override PartName="/ppt/media/image5.jpeg" ContentType="image/jpeg"/>
  <Override PartName="/ppt/media/image18.wmf" ContentType="image/x-wmf"/>
  <Override PartName="/ppt/media/image6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</p:sldIdLst>
  <p:sldSz cx="9144000" cy="6858000"/>
  <p:notesSz cx="6919913" cy="9205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0" y="0"/>
            <a:ext cx="6919200" cy="920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9736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dt" idx="16"/>
          </p:nvPr>
        </p:nvSpPr>
        <p:spPr>
          <a:xfrm>
            <a:off x="3919320" y="-360"/>
            <a:ext cx="29970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sldImg"/>
          </p:nvPr>
        </p:nvSpPr>
        <p:spPr>
          <a:xfrm>
            <a:off x="1158480" y="690120"/>
            <a:ext cx="4600440" cy="345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ftr" idx="17"/>
          </p:nvPr>
        </p:nvSpPr>
        <p:spPr>
          <a:xfrm>
            <a:off x="0" y="8741880"/>
            <a:ext cx="299736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 type="sldNum" idx="18"/>
          </p:nvPr>
        </p:nvSpPr>
        <p:spPr>
          <a:xfrm>
            <a:off x="3919320" y="8741880"/>
            <a:ext cx="29970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0531D-D86F-41A9-A5EE-CC3A48757D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58840" y="690480"/>
            <a:ext cx="4600440" cy="345132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Slide Number Placeholder 3"/>
          <p:cNvSpPr/>
          <p:nvPr/>
        </p:nvSpPr>
        <p:spPr>
          <a:xfrm>
            <a:off x="3919680" y="8742240"/>
            <a:ext cx="29970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A2307-143D-4E28-ACE4-7166B14526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0D1D-7655-4256-94CA-B15AF18C0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7B32-33BE-469C-AC49-9B4893249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8F5C-DB02-46A4-A105-7784A9F34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F389-7168-4C48-AD89-230026104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B2E7B-0C28-4F0A-A264-1125AA418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5D0BE-571C-4E04-BECA-80C5E39BB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21068-82D1-42E1-93CC-9BA39A3BD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2F543-79C6-4C88-9056-C7316D88C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773D6-FBA7-4D97-99CC-87D9E3720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455F4-7B4D-4511-A88A-F67AFA4C6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4B9D4-AE3E-4E0C-98EE-378F5DDA3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6833-A5CA-4A86-8E13-054B1FDDE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5C2C6-5E34-479F-893C-DD641BA02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25B58-2268-4CDF-8035-DB550381D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893BF-E4DE-4E11-AD54-792D60DAD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B7DF4-0455-4CE9-AF57-CE298DC35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6DF76-7ADE-4116-8A4F-98F2C72C2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C0E544-573D-4ACC-AABC-1CCF82882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B953F5-4106-4ACB-8BFD-BA14119A7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D57FF5-CBBF-4188-9852-9D653C66D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B1FD59-5033-4B6F-96CB-6512F024B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ABB0AE-289E-4C2B-B69D-708DE922F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66CA-352C-4140-8D4C-725E3A076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E2BF0E-B694-4529-A4A9-3155196EC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CC0F92-047F-4613-8EE3-823A24107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1A3607-EA7D-4CC6-B6E6-52D5E7553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9019F8-41C6-44EC-B5A3-25A2FBAC9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B1420A-D1FD-4E08-A572-09B659856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427378-5AE9-4D0C-8562-ADAE49077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CDE4A7-44E0-4706-9736-88290704D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694710-626C-42FA-A27D-CDCD25BA7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A60A78-AC10-40E4-AB8F-92946B4C3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060DA4-64FC-4CEA-B3C8-06E740D83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89C2-ACAE-483B-A4EA-7CB7809A4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0A9B45-EBEF-4DEB-B9A0-454F22820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CEC24E-809D-4D63-8665-9FF785A61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33E8B2-36F9-4632-BD27-F67BB88ED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6A088A-6531-46D4-9552-A10BE409A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06794E-4474-4982-B30A-519D0C8F9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A39745-847D-4F56-A7A7-A6F3F50B9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15080A-692C-478C-A907-29FD11188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9DD8BE-EED1-464C-9664-95D1639D2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64DA24-DEB3-4B2D-85E1-FEF5B621A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D4334E-14F9-4942-8329-9C53B8719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853D-28AD-48FB-AD8C-FB1C2ED39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D78744-6497-4B92-96A9-72F8FD875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EA5D30-52E9-4C64-9202-CD68DDB50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EA29FE-F103-46BE-8355-D3278B086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1421D8-017A-4BE5-80C7-9E3BC4BA2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05C9B9-C820-43FB-97B2-EEB95FB3E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9E3D2F-2B50-4BD8-B06D-8C94CBACB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F9A228-CAA2-445B-BD35-7FC52D35C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6D7BE2-E9A2-4482-9B8A-71B0212C8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A687FC-7F84-4CC1-95E6-3B4A26748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1770DD-2C2C-41DF-9CA4-80186C046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C797-EDEF-4BE9-9634-B1A823B5C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92B359-568E-4970-B389-8DB01295B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0E96-AC8B-4A48-9FAC-207636537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3C0B-92C5-4AC3-85EF-49D7E2991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B72A-7991-41C7-B7EC-4C5971C9A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F0DBB-E8BE-443C-AAF3-45BC99DE8D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1AEC1-BD55-46E0-9612-85292D2A49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92E63-930D-44E5-BF2F-D1F88C6E39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25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62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30FE3-B8D7-43C7-A04E-A81B0C42F3A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206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2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243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3B616-ECC0-4D7E-8F77-73ECEBF8DBE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0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1905120" y="0"/>
            <a:ext cx="5143320" cy="6858000"/>
          </a:xfrm>
          <a:prstGeom prst="rect">
            <a:avLst/>
          </a:prstGeom>
          <a:ln w="0">
            <a:noFill/>
          </a:ln>
        </p:spPr>
      </p:pic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904760" y="2759040"/>
            <a:ext cx="5181480" cy="36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Tahoma"/>
              </a:rPr>
              <a:t>Managing bigeye &amp; yellowfin tuna in the WCPO: </a:t>
            </a:r>
            <a:br>
              <a:rPr sz="6000"/>
            </a:br>
            <a:r>
              <a:rPr b="0" lang="en-US" sz="6000" spc="-1" strike="noStrike">
                <a:solidFill>
                  <a:srgbClr val="ff3300"/>
                </a:solidFill>
                <a:latin typeface="Tahoma"/>
              </a:rPr>
              <a:t>the Hawaii perspective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ABEAE3-119A-4998-B82D-74D442BF984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345960" y="233280"/>
            <a:ext cx="8088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HAWAII PELAGIC FISHERIES AS PERCENTAGE OF TOTAL PACIFIC OCEAN BIGEYE TUNA CATCH (2004)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763120" cy="373392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615960" y="2176560"/>
            <a:ext cx="17064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THER N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97.7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019920" y="3333600"/>
            <a:ext cx="266688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AWAII LONGLINE FISH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.3%(4% of WCP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H="1">
            <a:off x="5191200" y="3984480"/>
            <a:ext cx="1706400" cy="36216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166840" y="2682720"/>
            <a:ext cx="620640" cy="36216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04920" y="5562720"/>
            <a:ext cx="8610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*WPFRMC. 2006. Amendment 14 to the Fishery Management Plan for the Pelagic Fisheries of the Western Pacific Region.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A72F94-D587-4E6C-A009-19F12371909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304920" y="304920"/>
            <a:ext cx="8610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HAWAII LONGLINE FISHERY % OF TOTAL NO. OF LONGLINE VESSELS OPERATING IN THE WESTERN AND CENTRAL PACIFIC FISHERIES CONVENTION AREA (2004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152280" y="2286000"/>
            <a:ext cx="8763120" cy="3200400"/>
            <a:chOff x="152280" y="2286000"/>
            <a:chExt cx="8763120" cy="3200400"/>
          </a:xfrm>
        </p:grpSpPr>
        <p:pic>
          <p:nvPicPr>
            <p:cNvPr id="326" name="" descr=""/>
            <p:cNvPicPr/>
            <p:nvPr/>
          </p:nvPicPr>
          <p:blipFill>
            <a:blip r:embed="rId1"/>
            <a:stretch/>
          </p:blipFill>
          <p:spPr>
            <a:xfrm>
              <a:off x="152280" y="2286000"/>
              <a:ext cx="876312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"/>
            <p:cNvSpPr/>
            <p:nvPr/>
          </p:nvSpPr>
          <p:spPr>
            <a:xfrm>
              <a:off x="539640" y="2584440"/>
              <a:ext cx="1706760" cy="116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OTHER NATI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97.3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665760" y="3576600"/>
              <a:ext cx="1706760" cy="147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HAWAII LONGLINE FISHE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2.7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5114520" y="4133520"/>
              <a:ext cx="1706760" cy="309960"/>
            </a:xfrm>
            <a:prstGeom prst="line">
              <a:avLst/>
            </a:prstGeom>
            <a:ln w="936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090880" y="3017880"/>
              <a:ext cx="620640" cy="309960"/>
            </a:xfrm>
            <a:prstGeom prst="line">
              <a:avLst/>
            </a:prstGeom>
            <a:ln w="936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"/>
          <p:cNvSpPr/>
          <p:nvPr/>
        </p:nvSpPr>
        <p:spPr>
          <a:xfrm>
            <a:off x="228600" y="5486400"/>
            <a:ext cx="8610480" cy="12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*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  <a:ea typeface="Arial"/>
              </a:rPr>
              <a:t>Williams, P. and C. Reid. 2005. Overview of tuna fisheries in the western and central Pacific Ocean, including economic conditions – 2004. Meeting of the Scientific Committee of the Western and Central Pacific Fisheries Commission, WCPFC-SC-1, Noumea, New Caledonia, 8-19 August 2005. GN WP-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*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  <a:ea typeface="Arial"/>
              </a:rPr>
              <a:t>WPRFMC. 2005. The Pelagic Fisheries of the Western Pacific Region Annual Report 2004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26A9E7-AB20-44FE-8ADD-A79C866695C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7934040" cy="475920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3870360" y="341280"/>
            <a:ext cx="3749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0" y="15228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ontribution of Hawaii Longline Fishery to the Total Observed Effort (32.22 million hooks) in the Western and Central Pacific between 2001 and 2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65EA1E-FD36-4E03-95A8-31ECA26A97E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shing effort north and south of Hawa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rcRect l="9775" t="4392" r="13673" b="24241"/>
          <a:stretch/>
        </p:blipFill>
        <p:spPr>
          <a:xfrm>
            <a:off x="1905120" y="1752480"/>
            <a:ext cx="5562360" cy="495324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/>
          <p:nvPr/>
        </p:nvSpPr>
        <p:spPr>
          <a:xfrm>
            <a:off x="2540160" y="6703920"/>
            <a:ext cx="4689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728800" y="300816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C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716440" y="48006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96EF-07A6-4644-8C7E-6F44A4E8C43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CPO yellowfin and bigeye size frequency by gear type. Source: SPC-OF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1"/>
          <a:stretch/>
        </p:blipFill>
        <p:spPr>
          <a:xfrm>
            <a:off x="914400" y="1676520"/>
            <a:ext cx="7543800" cy="4797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27FA-CF52-42E4-9DF0-65FCCDD8B83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76320" y="925560"/>
            <a:ext cx="2438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waii long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shery bigey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na catch 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ze. Note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tch is pre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minantly juven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sub-adult fish, especially in Region 4. Sour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C-O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2971800" y="762120"/>
          <a:ext cx="5886360" cy="2895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762120"/>
                    <a:ext cx="5886360" cy="28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2971800" y="3951360"/>
          <a:ext cx="5943600" cy="26575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71800" y="3951360"/>
                    <a:ext cx="5943600" cy="26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 flipH="1">
            <a:off x="4209840" y="45370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4873680" y="4343400"/>
            <a:ext cx="106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ven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860520" y="434340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7597800" y="455436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4819320" y="148896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483160" y="1295280"/>
            <a:ext cx="106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ven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936840" y="129528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7674120" y="15066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443640" y="1981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946120" y="169056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400800" y="4572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028560" y="428148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FD5A-58FC-4712-B69E-482EF1B0BEF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04560" y="68544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waii longlin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shery Yellowf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na catch 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ze. Source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C-O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2895480" y="3444840"/>
          <a:ext cx="5359680" cy="2727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3444840"/>
                    <a:ext cx="5359680" cy="272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2" name=""/>
          <p:cNvSpPr/>
          <p:nvPr/>
        </p:nvSpPr>
        <p:spPr>
          <a:xfrm flipV="1">
            <a:off x="5867280" y="863640"/>
            <a:ext cx="0" cy="172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3" name=""/>
          <p:cNvGraphicFramePr/>
          <p:nvPr/>
        </p:nvGraphicFramePr>
        <p:xfrm>
          <a:off x="2819520" y="457200"/>
          <a:ext cx="5419440" cy="27129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457200"/>
                    <a:ext cx="5419440" cy="271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5" name=""/>
          <p:cNvSpPr/>
          <p:nvPr/>
        </p:nvSpPr>
        <p:spPr>
          <a:xfrm flipV="1">
            <a:off x="5943600" y="939600"/>
            <a:ext cx="0" cy="172692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5952960" y="3867120"/>
            <a:ext cx="0" cy="17272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3962160" y="10666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648320" y="852480"/>
            <a:ext cx="107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ven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631920" y="83808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69200" y="10396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6019920" y="3886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869800" y="365760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3733560" y="4100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886200"/>
            <a:ext cx="107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ven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708240" y="388620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7445520" y="40878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6178680" y="1295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028560" y="106668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D332-0FEC-4707-A493-2893963B448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905120" y="-360"/>
            <a:ext cx="723888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ok size/type does not show much variation in size selection. Source: Kim et al (2006) WCPFC-SC2-2006/EB WP-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1"/>
          <a:srcRect l="0" t="1407" r="0" b="0"/>
          <a:stretch/>
        </p:blipFill>
        <p:spPr>
          <a:xfrm>
            <a:off x="1905120" y="1295280"/>
            <a:ext cx="5867280" cy="5343480"/>
          </a:xfrm>
          <a:prstGeom prst="rect">
            <a:avLst/>
          </a:prstGeom>
          <a:ln w="0">
            <a:noFill/>
          </a:ln>
        </p:spPr>
      </p:pic>
      <p:pic>
        <p:nvPicPr>
          <p:cNvPr id="381" name="" descr=""/>
          <p:cNvPicPr/>
          <p:nvPr/>
        </p:nvPicPr>
        <p:blipFill>
          <a:blip r:embed="rId2"/>
          <a:stretch/>
        </p:blipFill>
        <p:spPr>
          <a:xfrm>
            <a:off x="609480" y="1219320"/>
            <a:ext cx="770040" cy="1752480"/>
          </a:xfrm>
          <a:prstGeom prst="rect">
            <a:avLst/>
          </a:prstGeom>
          <a:ln w="0">
            <a:noFill/>
          </a:ln>
        </p:spPr>
      </p:pic>
      <p:pic>
        <p:nvPicPr>
          <p:cNvPr id="382" name="" descr=""/>
          <p:cNvPicPr/>
          <p:nvPr/>
        </p:nvPicPr>
        <p:blipFill>
          <a:blip r:embed="rId3"/>
          <a:stretch/>
        </p:blipFill>
        <p:spPr>
          <a:xfrm>
            <a:off x="533520" y="2917800"/>
            <a:ext cx="992160" cy="188280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4"/>
          <a:stretch/>
        </p:blipFill>
        <p:spPr>
          <a:xfrm>
            <a:off x="609480" y="4876920"/>
            <a:ext cx="962280" cy="1904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1A5F-8EEE-4447-B067-61F11B7A0F9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tential Longline Management Meas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um size: how small? Hawaii fleet average size = 108-114 cm bigey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kely high survival of properly handled released bigey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tch quota: Hawaii = 5000 mt?, Am Samoa-Guam-CNMI 2000 mt each? Time limits on achieving 2000 mt? (Other major US longline fishery in Am Samoa currently catch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≈ 200 mt bigeye annual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d season: how long, and wh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eet set limits? Limits on hooks per set? Vessel day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dit for pre-existing management measures: limited entry, area closures around MHI, NWHI and Am. Samoa, bycatch limits, e.g. turtle cap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3A25-FF18-462A-8072-65D784BB670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CPO catches of bigeye tuna. Dashed line represent MSY from 2006 stock assessment (Source SPC-OF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914400" y="1677960"/>
            <a:ext cx="7467480" cy="4494240"/>
            <a:chOff x="914400" y="1677960"/>
            <a:chExt cx="7467480" cy="4494240"/>
          </a:xfrm>
        </p:grpSpPr>
        <p:graphicFrame>
          <p:nvGraphicFramePr>
            <p:cNvPr id="297" name=""/>
            <p:cNvGraphicFramePr/>
            <p:nvPr/>
          </p:nvGraphicFramePr>
          <p:xfrm>
            <a:off x="914400" y="1677960"/>
            <a:ext cx="7467480" cy="449424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29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914400" y="1677960"/>
                      <a:ext cx="7467480" cy="449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99" name=""/>
            <p:cNvSpPr/>
            <p:nvPr/>
          </p:nvSpPr>
          <p:spPr>
            <a:xfrm>
              <a:off x="2820960" y="3733920"/>
              <a:ext cx="67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S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A3BD-5E36-4446-B125-11913FDF569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CPO catches of yellowfin tuna. Dashed line represent MSY from 2006 stock assessment (Source SPC-OF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1066680" y="1828800"/>
          <a:ext cx="7086600" cy="4641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828800"/>
                    <a:ext cx="7086600" cy="464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C59E-9064-4629-A0C3-DD4D7676EE6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awaii Fresh Fish Longline Fisheri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3"/>
          <p:cNvSpPr/>
          <p:nvPr/>
        </p:nvSpPr>
        <p:spPr>
          <a:xfrm>
            <a:off x="0" y="1044720"/>
            <a:ext cx="9144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tional characteristics that could be considered when developing management options for bigeye targeting longline fisheries in the Hawaii fish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eye is the target species and is the revenue driver for the fishery and generates approximately 60% ex-vessel reve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.S. longline fisheries most species are retained and sold and contribute to the economic viability of the fishery. Main discards are lancet fish and blue shar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sh fish markets require consistent supply requiring compatible management reg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461E-2BD5-4929-86BD-3FC61B5E0C1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awaii Fresh Fish Longline Fishe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ting costs are comparatively high as trips are short, with travel and port days reducing effici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waii longline fishery is characterized by relatively low volumes of high value landings. Honolulu ranks low volume-wise in the US fish port landings, but is 4th in terms of landed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waii domestic market relies almost entirely on the Hawaii longline fishery bigeye cat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waii bigeye tuna is extremely important both economically and culturally to the Hawaii commun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33F3-AE4D-404C-9DFE-721D943CA78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waii longline fishery: fleet characteristics and management meas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mited entry program, maximum fleet size of 164 vessels, current fleet size since 1992 fleet has been stable at around 120-125 vesse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shery has maximum size limit of 101 ft. Average size 70 ft and size range of 42 -98ft in lengt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gbooks and observers are mandatory, with 20% observer coverage in tuna fleet, 100% in swordfish fle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50-75-nm longline area closure around entire Hawaii (25% of EEZs), Archipelago to minimize protected species interactions and interactions and competition with small vessel troll and handline flee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MS mandatory on all Hawaii longline vesse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these measures pre-date the FAO Code of Conduct For Responsible Fishe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CCA3-E38B-4A1A-B897-384CED133D1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waii longline fishery: fleet characteristics and management meas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-360" y="1447560"/>
            <a:ext cx="8991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ycatch mitigation measures for turtles (circle hooks, mackerel type bait, de-hookers, turtle handling requirements) and seabirds (weighted hooks, line shooters, blue dyed bait, night setting for swordfish boats). Measures apply &gt; 23 deg N lat for tuna vessels and at all latitudes for swordfish vessel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wordfish fishery constrained by effort (50% of 1994-1999 average = 2240 sets) with set certificates, plus hard caps on leatherback (16) and loggerhead (17) turtl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ep setting is defined in regulations, with minimum number of hooks between floats and minimum (20 m) float line lengths and minimum depth of sag, plus no light-sticks, plus cap (10) on swordfish reten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nual protected species certification required for vessel owners and operato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 landings of shark fins without carcasses, or fins must be 5% of landed total shark weigh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CG boards about 30% of fleet annually for at sea insp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6286-44EA-4D34-AF58-CD574F7FDC7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awaii longline fishery fleet size. Note relative stability since 199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1"/>
          <a:srcRect l="0" t="0" r="0" b="3029"/>
          <a:stretch/>
        </p:blipFill>
        <p:spPr>
          <a:xfrm>
            <a:off x="228600" y="2133720"/>
            <a:ext cx="830592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CE7B-957F-44EB-89FB-A6531812DA0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3818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waii fishery has increased hooks set over time, but with major increase following swordfish closure in 2001 and, more recently increasing fuel costs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Source: NMFS-PIFSC &amp; WPacF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685800" y="1828800"/>
          <a:ext cx="7924680" cy="4692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28800"/>
                    <a:ext cx="7924680" cy="469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31AA-086C-49C8-B95F-8212EB16BD8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20:41:39Z</dcterms:created>
  <dc:creator>Paul Dalzell</dc:creator>
  <dc:description/>
  <dc:language>en-US</dc:language>
  <cp:lastModifiedBy>LaptopAccount</cp:lastModifiedBy>
  <dcterms:modified xsi:type="dcterms:W3CDTF">2008-03-28T22:39:00Z</dcterms:modified>
  <cp:revision>22</cp:revision>
  <dc:subject/>
  <dc:title>Bigeye tuna: the Hawaii longline perspective</dc:title>
</cp:coreProperties>
</file>