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F0DAF-5676-4551-9086-3756DF56B9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1B624-33D3-4836-BE07-ED53E9E70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C9BE5-376B-46E6-AA60-BC336BED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1F9C8-1A25-4F17-B22D-EDA5DBA7D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368D2-B23F-4FBC-B399-351BFAD265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B1E90-3CB0-421C-8EDB-EC439960F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1A5BD-137D-417C-910E-854F54CBC4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10E06-59D4-489F-AA0A-A2E26ADF26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A866B-11BA-4A1C-B698-6B78CE02E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F0AB-4FE3-4FDD-A446-DBC22867C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4A2F-E67D-4301-8414-5AE9C82BF4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A9E7F-0663-46B1-9A14-285AFD5919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26B-A584-4C77-8F59-18F1EC51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89C7C9-13D2-4002-ADD6-E069FE778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094E53-2B2A-4528-91E6-37BBC2FB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04507-952E-4B68-B15B-2DF6230143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6194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324840" y="236196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9140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6194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324840" y="4312080"/>
            <a:ext cx="257616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1D528-D553-47B8-939D-3F08EC255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7CDF0-64D8-4C5B-B8FF-8FFC955BD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2333-CB4F-4EB0-BBE6-A6109EA722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3ECFB-73FD-47F0-9686-5161E18EC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914040" y="761760"/>
            <a:ext cx="800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6C7D3-F5A6-47A9-8C13-4AE653526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8C258-7C3C-498F-B3FF-908D850D7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013720" y="431208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AC650-D3F9-4E57-B31D-37EA55F28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13720" y="2361960"/>
            <a:ext cx="39042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914040" y="4312080"/>
            <a:ext cx="8001000" cy="17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A0D7F-018C-47F0-A196-D50898A77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3200400" cy="6858000"/>
            <a:chOff x="0" y="0"/>
            <a:chExt cx="3200400" cy="685800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2120" cy="685800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85800" y="0"/>
              <a:ext cx="2514600" cy="1066680"/>
            </a:xfrm>
            <a:prstGeom prst="rect">
              <a:avLst/>
            </a:prstGeom>
            <a:solidFill>
              <a:srgbClr val="ed7d2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762120" y="762120"/>
            <a:ext cx="5105160" cy="60948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cc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cc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cc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70102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2936520" y="6526800"/>
            <a:ext cx="289548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83880" y="6342480"/>
            <a:ext cx="58716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20A09-31C3-47DF-9CB8-DB07CE5C8ABB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228600" y="1981080"/>
            <a:ext cx="7391520" cy="319320"/>
            <a:chOff x="228600" y="1981080"/>
            <a:chExt cx="7391520" cy="319320"/>
          </a:xfrm>
        </p:grpSpPr>
        <p:sp>
          <p:nvSpPr>
            <p:cNvPr id="10" name=""/>
            <p:cNvSpPr/>
            <p:nvPr/>
          </p:nvSpPr>
          <p:spPr>
            <a:xfrm>
              <a:off x="609480" y="1981080"/>
              <a:ext cx="701064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>
              <a:off x="228600" y="1981080"/>
              <a:ext cx="393840" cy="31932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4572000" cy="6858000"/>
          </a:xfrm>
          <a:prstGeom prst="rect">
            <a:avLst/>
          </a:prstGeom>
          <a:solidFill>
            <a:srgbClr val="ed7d2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685800" y="990720"/>
            <a:ext cx="5181480" cy="190476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1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f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cc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dt" idx="4"/>
          </p:nvPr>
        </p:nvSpPr>
        <p:spPr>
          <a:xfrm>
            <a:off x="2666880" y="6550560"/>
            <a:ext cx="19051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ftr" idx="5"/>
          </p:nvPr>
        </p:nvSpPr>
        <p:spPr>
          <a:xfrm>
            <a:off x="5195520" y="6550560"/>
            <a:ext cx="327996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cc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sldNum" idx="6"/>
          </p:nvPr>
        </p:nvSpPr>
        <p:spPr>
          <a:xfrm>
            <a:off x="9360" y="6358320"/>
            <a:ext cx="587520" cy="48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9D6B5F-0725-48AE-820D-A5E4BC6B3019}" type="slidenum">
              <a:rPr b="1" lang="en-US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title"/>
          </p:nvPr>
        </p:nvSpPr>
        <p:spPr>
          <a:xfrm>
            <a:off x="936720" y="1425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33cc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WCPFC institutional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ther matters 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9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he Convention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0 members plus 4 participating territorie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ost Government Agree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2 Agreements involving FSM national Government, Pohnpei State and the Commission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Headquarters Agreement (privileges and immunities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Occupancy Agreement (tenure, use of buildings, etc.)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xcellent support from FSM - working to conclude both before Comm-2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4" name="commission_logo" descr=""/>
          <p:cNvPicPr/>
          <p:nvPr/>
        </p:nvPicPr>
        <p:blipFill>
          <a:blip r:embed="rId1"/>
          <a:stretch/>
        </p:blipFill>
        <p:spPr>
          <a:xfrm>
            <a:off x="6324480" y="550548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Establishment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terim offi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taff Regulations drafted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ToR circulated to members – advertising next week?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Banking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suranc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udit arrangement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unications 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	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– </a:t>
            </a: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ncluding website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-318960">
              <a:lnSpc>
                <a:spcPct val="90000"/>
              </a:lnSpc>
              <a:spcBef>
                <a:spcPts val="649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Subsidiary bodies</a:t>
            </a: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  <a:p>
            <a:pPr marL="31896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08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inance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5 accounts – 2 FSM bank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conciliation and transfers underway from FFA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urrent status – SC commitment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Voluntary contributions - including in-kind from the Chairman’s Office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2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Relations with other organization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Article 22 – unfinished busines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ATTC, ISC, IOTC, CCAMLR, FAO, FFA, SPC, CCSBT, ICCAT.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16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040" y="76176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Miscellaneous matters</a:t>
            </a:r>
            <a:endParaRPr b="1" lang="en-US" sz="36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914040" y="2361960"/>
            <a:ext cx="8001000" cy="373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Commissioner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Funds!  Assessed contributions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cc"/>
                </a:solidFill>
                <a:latin typeface="Arial"/>
                <a:ea typeface="ＭＳ Ｐゴシック"/>
              </a:rPr>
              <a:t>Ist July fishing vessel reports [Art. 24 (5) – Annex IV]</a:t>
            </a:r>
            <a:endParaRPr b="0" lang="en-US" sz="2800" spc="-1" strike="noStrike">
              <a:solidFill>
                <a:srgbClr val="0033cc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533760" y="2890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33cc"/>
              </a:solidFill>
              <a:latin typeface="Arial"/>
            </a:endParaRPr>
          </a:p>
        </p:txBody>
      </p:sp>
      <p:pic>
        <p:nvPicPr>
          <p:cNvPr id="120" name="commission_logo" descr=""/>
          <p:cNvPicPr/>
          <p:nvPr/>
        </p:nvPicPr>
        <p:blipFill>
          <a:blip r:embed="rId1"/>
          <a:stretch/>
        </p:blipFill>
        <p:spPr>
          <a:xfrm>
            <a:off x="6324480" y="5257800"/>
            <a:ext cx="2610000" cy="135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8T11:55:28Z</dcterms:created>
  <dc:creator>Andrew Wright</dc:creator>
  <dc:description/>
  <dc:language>en-US</dc:language>
  <cp:lastModifiedBy>水産庁</cp:lastModifiedBy>
  <dcterms:modified xsi:type="dcterms:W3CDTF">2005-09-08T12:49:44Z</dcterms:modified>
  <cp:revision>8</cp:revision>
  <dc:subject/>
  <dc:title>WCPFC institutional matters</dc:title>
</cp:coreProperties>
</file>