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1FC7-73C7-494A-9500-FD92B4BF2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3D40-B7AA-4717-B111-491430AC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21B5-A14D-4694-AF0F-810A6E6E5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F38C-4B4C-42E0-BF38-90604EDBC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E697-04A4-442E-A2A7-635A16E7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AE0D-BE29-4964-B46C-FF6A2F62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6048-45C8-448C-8F51-B33AAA3E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B81D-7965-4BC1-BEE8-05DEEAC8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6D3D-186D-4DE3-97FB-3C0FE54A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155CC-9623-483C-B32B-8CB55A6B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A383F-8400-43EB-AA4E-12577550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168B-CD3B-43BA-A93D-4739192D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835F0-1684-461C-A04F-5BCEECC4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A50E-77F4-420E-9002-228BE7FA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2942-7A7A-4192-9277-F063470A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340C-CD2A-4165-859C-D26E98A8C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80E23-D173-4A83-A77C-78A4976B8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5DA1-366C-43E9-B730-4E6295E5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3D30-5483-4521-BE28-DEB7B70A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4CC5-6851-4D65-82B6-4726DC15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D829-AB7A-450B-B794-AA7D4E23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14F8-8C71-46C0-85B5-066DC7D4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A5F6-8B6A-4CF3-8125-ACE4BE31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C1BB-3003-4D7C-942C-A4F54010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6180-9C23-490F-8FEA-39DB530B5D3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ed7d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6380-06B8-4C9E-A48C-EE000BF2447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WCPFC institutional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ther matters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0 members plus 4 participating territori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 Agreements involving FSM national Government, Pohnpei State and the Commission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eadquarters Agreement (privileges and immunities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ccupancy Agreement (tenure, use of buildings, etc.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xcellent support from FSM - working to conclude both before Comm-2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4" name="commission_logo" descr=""/>
          <p:cNvPicPr/>
          <p:nvPr/>
        </p:nvPicPr>
        <p:blipFill>
          <a:blip r:embed="rId1"/>
          <a:stretch/>
        </p:blipFill>
        <p:spPr>
          <a:xfrm>
            <a:off x="6324480" y="550548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terim offi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taff Regulations drafted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oR circulated to members – advertising next week?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Banking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suran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udit arrangement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unications 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– 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cluding websit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ubsidiary bodie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8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5 accounts – 2 FSM bank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conciliation and transfers underway from FFA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urrent status – SC commitment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Voluntary contributions - including in-kind from the Chairman’s Offic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2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lations with other organization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rticle 22 – unfinished busines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ATTC, ISC, IOTC, CCAMLR, FAO, FFA, SPC, CCSBT, ICCAT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Miscellaneous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issioner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unds!  Assessed contribution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st July fishing vessel reports [Art. 24 (5) – Annex IV]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1:55:28Z</dcterms:created>
  <dc:creator>Andrew Wright</dc:creator>
  <dc:description/>
  <dc:language>en-US</dc:language>
  <cp:lastModifiedBy>水産庁</cp:lastModifiedBy>
  <dcterms:modified xsi:type="dcterms:W3CDTF">2005-09-08T12:49:44Z</dcterms:modified>
  <cp:revision>8</cp:revision>
  <dc:subject/>
  <dc:title>WCPFC institutional matters</dc:title>
</cp:coreProperties>
</file>