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A7B4-796A-407C-BA3B-3E560CD78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CD0E-E9DF-4C80-A939-ECBC6C0D2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3712-A6AA-424D-9DEB-92860B0B1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1536-19B9-4B19-887F-8A8E1884A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04646-620E-4D95-BBB1-FE8C6EEEB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D4E44-0C0B-4717-A61E-5A8045429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1019E-5BFC-4C7D-BC7C-BA679CF10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5BFA2-98B2-4478-BCED-0728D2796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BF9A1-F8B7-41D3-8F55-65BFDF4AD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50A35-1839-4698-9914-62F325286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AB785-1573-48F8-A0CE-DC32D241A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6AA8-814A-415B-B5E6-AA6038BEA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61F73-2461-4CD6-9A98-562A47B4D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7E1D5-AB2C-40FF-8C40-511AD6180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B9C80-5E80-4869-8837-C2AD944D2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575DB-835A-433A-A398-E488BA3A8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8AB8B-7316-43D1-B505-6C76C0BA8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F1AB-4119-4EA5-83C2-580600840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50E3-EFA6-4BA6-993A-F66B94744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1700-882A-47F1-A8DF-61B21A4E3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F250-A3D4-405B-8AB1-5B8592DB3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E8B2-721C-478A-8076-04D10086A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38E5-F5D6-4F4E-B03F-7312AA5E4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29DD-7A85-46D0-9723-7FA6DE87C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ed7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ed7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cc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cc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cc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cc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cc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E29E0-DDC4-424D-BA48-F8268B5FFBFA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ed7d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76224-DAF3-458E-A18B-0B98020DFCD3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WCPFC institutional matters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The Convention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Host Government Agreement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Establishment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Finance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Other matters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33760" y="28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96" name="commission_logo" descr=""/>
          <p:cNvPicPr/>
          <p:nvPr/>
        </p:nvPicPr>
        <p:blipFill>
          <a:blip r:embed="rId1"/>
          <a:stretch/>
        </p:blipFill>
        <p:spPr>
          <a:xfrm>
            <a:off x="6324480" y="5257800"/>
            <a:ext cx="261000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The Convention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20 members plus 4 participating territorie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533760" y="28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0" name="commission_logo" descr=""/>
          <p:cNvPicPr/>
          <p:nvPr/>
        </p:nvPicPr>
        <p:blipFill>
          <a:blip r:embed="rId1"/>
          <a:stretch/>
        </p:blipFill>
        <p:spPr>
          <a:xfrm>
            <a:off x="6324480" y="5257800"/>
            <a:ext cx="261000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Host Government Agreement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2 Agreements involving FSM national Government, Pohnpei State and the Commission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Headquarters Agreement (privileges and immunities)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Occupancy Agreement (tenure, use of buildings, etc.)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Excellent support from FSM - working to conclude both before Comm-2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533760" y="28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4" name="commission_logo" descr=""/>
          <p:cNvPicPr/>
          <p:nvPr/>
        </p:nvPicPr>
        <p:blipFill>
          <a:blip r:embed="rId1"/>
          <a:stretch/>
        </p:blipFill>
        <p:spPr>
          <a:xfrm>
            <a:off x="6324480" y="5505480"/>
            <a:ext cx="261000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Establishment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Interim office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Staff Regulations drafted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ToR circulated to members – advertising next week?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Banking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Insurance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Audit arrangements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Communications 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	</a:t>
            </a: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– </a:t>
            </a: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including website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Subsidiary bodies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533760" y="28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8" name="commission_logo" descr=""/>
          <p:cNvPicPr/>
          <p:nvPr/>
        </p:nvPicPr>
        <p:blipFill>
          <a:blip r:embed="rId1"/>
          <a:stretch/>
        </p:blipFill>
        <p:spPr>
          <a:xfrm>
            <a:off x="6324480" y="5257800"/>
            <a:ext cx="261000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Finances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5 accounts – 2 FSM bank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Reconciliation and transfers underway from FFA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Current status – SC commitment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Voluntary contributions - including in-kind from the Chairman’s Office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533760" y="28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12" name="commission_logo" descr=""/>
          <p:cNvPicPr/>
          <p:nvPr/>
        </p:nvPicPr>
        <p:blipFill>
          <a:blip r:embed="rId1"/>
          <a:stretch/>
        </p:blipFill>
        <p:spPr>
          <a:xfrm>
            <a:off x="6324480" y="5257800"/>
            <a:ext cx="261000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Relations with other organizations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Article 22 – unfinished busines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IATTC, ISC, IOTC, CCAMLR, FAO, FFA, SPC, CCSBT, ICCAT.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533760" y="28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16" name="commission_logo" descr=""/>
          <p:cNvPicPr/>
          <p:nvPr/>
        </p:nvPicPr>
        <p:blipFill>
          <a:blip r:embed="rId1"/>
          <a:stretch/>
        </p:blipFill>
        <p:spPr>
          <a:xfrm>
            <a:off x="6324480" y="5257800"/>
            <a:ext cx="261000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Miscellaneous matters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Commissioner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Funds!  Assessed contribution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Ist July fishing vessel reports [Art. 24 (5) – Annex IV]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533760" y="28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20" name="commission_logo" descr=""/>
          <p:cNvPicPr/>
          <p:nvPr/>
        </p:nvPicPr>
        <p:blipFill>
          <a:blip r:embed="rId1"/>
          <a:stretch/>
        </p:blipFill>
        <p:spPr>
          <a:xfrm>
            <a:off x="6324480" y="5257800"/>
            <a:ext cx="261000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8T11:55:28Z</dcterms:created>
  <dc:creator>Andrew Wright</dc:creator>
  <dc:description/>
  <dc:language>en-US</dc:language>
  <cp:lastModifiedBy>水産庁</cp:lastModifiedBy>
  <dcterms:modified xsi:type="dcterms:W3CDTF">2005-09-08T12:49:44Z</dcterms:modified>
  <cp:revision>8</cp:revision>
  <dc:subject/>
  <dc:title>WCPFC institutional matters</dc:title>
</cp:coreProperties>
</file>