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D582-A788-4B1B-B307-9E61D4E2C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5F66-4AA2-49A9-8FB3-503BB921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917B-D360-4698-A7C0-84B6EDFE4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C934-D0EF-4D17-833E-CC864B901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8A38-D1E7-4695-99FD-2CACA8E5F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F810-0759-4AF4-8607-AB12D10C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ADA0-C60D-440C-9000-14A94B68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505F-C6E0-442B-A769-CD60CAE8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9CFD-840F-4FC8-A4BD-2A5D45B7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86A3-5E64-412F-8800-B08AE339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ACFF-EDC5-470F-9322-FC6459A1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31F1-339C-4EB7-82E0-7E61A4FF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E7D0-4DBE-4B2E-B3E7-14472E4D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C41D-B548-43A4-A2AE-188ACB34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3C3B-AA27-47EA-A405-5D38280B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2DEA-26D9-4DC9-BF87-4F039ADF2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196E-924A-461C-8C1C-981FD45A8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C076-A444-4787-A448-97010A2E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C88C-D6C2-48EB-B489-B343FD37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0007-1135-4A1A-B308-47390C6F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0A36-E798-4C2B-ADD0-FC9B98FD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1E29-7DF4-4F2B-9A3C-5CC2B795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737A-7DD8-4888-A87D-3077A11C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7EE6-2433-49CE-A7BB-AF051EF5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6DAB-4B7C-4EF2-808F-F8A7005D2D4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ed7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DBBC-78B7-41B9-A2FD-B0C5BF4269B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WCPFC institutional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ther matters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0 members plus 4 participating territori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 Agreements involving FSM national Government, Pohnpei State and the Commission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eadquarters Agreement (privileges and immunities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ccupancy Agreement (tenure, use of buildings, etc.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xcellent support from FSM - working to conclude both before Comm-2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" name="commission_logo" descr=""/>
          <p:cNvPicPr/>
          <p:nvPr/>
        </p:nvPicPr>
        <p:blipFill>
          <a:blip r:embed="rId1"/>
          <a:stretch/>
        </p:blipFill>
        <p:spPr>
          <a:xfrm>
            <a:off x="6324480" y="550548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terim offi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taff Regulations drafted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oR circulated to members – advertising next week?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Banking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suran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udit arrangement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unications 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– 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cluding websit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ubsidiary bodie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8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5 accounts – 2 FSM bank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conciliation and transfers underway from FF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urrent status – SC commitment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Voluntary contributions - including in-kind from the Chairman’s Offic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2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lations with other organization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rticle 22 – unfinished busines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ATTC, ISC, IOTC, CCAMLR, FAO, FFA, SPC, CCSBT, ICCAT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Miscellaneous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issioner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unds!  Assessed contribution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st July fishing vessel reports [Art. 24 (5) – Annex IV]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1:55:28Z</dcterms:created>
  <dc:creator>Andrew Wright</dc:creator>
  <dc:description/>
  <dc:language>en-US</dc:language>
  <cp:lastModifiedBy>水産庁</cp:lastModifiedBy>
  <dcterms:modified xsi:type="dcterms:W3CDTF">2005-09-08T12:49:44Z</dcterms:modified>
  <cp:revision>8</cp:revision>
  <dc:subject/>
  <dc:title>WCPFC institutional matters</dc:title>
</cp:coreProperties>
</file>