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A9B3-FAFA-46FE-BADD-0141E31FF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0409-6341-4583-84AC-45C65314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13B3-72AB-4A4D-A072-136E66800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645B-5598-4B56-93C5-97BD4E981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2FAC-FA19-4500-900E-D3877CFE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4F98-A4AA-4843-8CD6-6FDE9835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CBD0-5D5C-4B76-A38F-3F711439E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987D-A62C-4944-B911-003390D7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CBF3-25DA-46F8-8D50-F63AD170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B31B-72FA-473B-BC3B-07EB095D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28A7-D450-4071-8AA8-54F054AA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F9B6-7ED8-4A41-890F-F714421A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0337-01B3-441F-87E5-C2F45E1E29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PACIFIC ISLAND COUNTRIES/PNG VIEW ON BIGEYE &amp; YELLOWFIN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HE SIT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ience clearly sh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 of the 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s to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top overfishing of big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longlining on adult big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the impact of FADs on juven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intain the yellowfin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ain overall c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juvenile catches especially in Indonesia &amp; Philipp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lso plan to make optimum use of the albacore and skipjack st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 GU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A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 re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onth FAD cl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 longline bigeye catch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100% observer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in good faith/didn’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complex, too many interests, not enough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713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NA Members/PICs have agreed to apply in their EEZs from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onth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uture, PNA Members/PICs, not the Commission, will adopt and apply measures for their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ill allow the Commission to focus on its 2 main job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ing overall stock status, limits and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ing compatible measures in the high seas including limits to fishing effort and M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SUPPLEMENTARY BIGEYE &amp; YELLOWFIN CMM AT WCPFC5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tible High Seas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high seas purse seine effort limit – closure after X days limit, monitored by VMS (??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seas catch reten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onth high seas FAD clos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% high seas PS observer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losure of 3 high seas pockets?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 longline bigeye catch limit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zone-based tropical longline management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COMPATIBLE HIGH SEAS MEASURES, CLOSE THE HIGH SEAS UNTIL THERE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NG In Zone Mea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ddition to management plans, MTCs, PNG has introduced new in zone measur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d Morgardo Square, Archipelagic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ing 50 nautical mile corridor PNG/Indonesia northern b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D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% FADS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549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CIFIC ISLAND COUNTRIES WILL NOT AGREE T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capacity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time/area closures in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BEYOND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 move beyond ad hoc piecemeal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to longer term strategic measures based on reference points and TACs/TA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4:58:00Z</dcterms:created>
  <dc:creator>Les</dc:creator>
  <dc:description/>
  <dc:language>en-US</dc:language>
  <cp:lastModifiedBy>Justin Ilakini</cp:lastModifiedBy>
  <dcterms:modified xsi:type="dcterms:W3CDTF">2008-03-31T23:08:46Z</dcterms:modified>
  <cp:revision>26</cp:revision>
  <dc:subject/>
  <dc:title>PACIFIC ISLAND COUNTRIES VIEW ON BIGEYE &amp; YELLOWFIN ISSUES</dc:title>
</cp:coreProperties>
</file>