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28CB-4BFE-4CFF-8DAE-ABA4D209C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17B3-F4E5-4515-B55D-5CE0430AD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DF1B-D012-404A-B954-9C65A9D57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ECC7-1414-4EB9-A0C9-00EDE9D8C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235F-9060-4CD4-B49B-3C65C77E7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3837-D736-4DA4-B7FB-DDD5EC8C9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F74E-3F1E-43C4-90E9-2966B8D6E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F177-81E4-4B49-990A-B1B79835C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7BA7-AC2A-4F86-814F-03C18354A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DF26-A166-4189-AD86-CD2FC63CD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7D94-15CD-44F0-BF2B-BC415D5A8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6442-2DEA-490C-B490-1C790CA03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AF4B9-7B53-4ECD-902B-AC9BF1CE12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Where to from her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we have learnt so fa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21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isting WCPFC measures (CMM 2006-01 &amp; 2005-01) established effort caps – but insufficient to address overfis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S management measures are being implemented by PNA members within EEZ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tch re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month FAD cl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% observer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reement that require ‘complimentary’ measures in the high seas (achieve equivalent effect but not necessarily the s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incip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sures should be established across PS and LL to be effective &amp; not pose disproportional burden on fish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m to minimise impacts on skipjack and albacore cat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to act at the next meeting ……no compromise on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ggested PS measur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In high seas between 2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N and 1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S and compatible with EEZ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otal effort limit (vesse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otal effort limit (days) monitored through VMS (similar to V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otal catch limit (responsive to population size chang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On all PS effort or FAD/log se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Catch re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3 month FAD cl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100% Observer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Staged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ggested PS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osure of high se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osure of high seas po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S discussion on co-operative management and decision m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ll closure say 3 mon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ggested PS measur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ternative metho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 depth restri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trictions on time of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trictions on mesh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on phase consi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tential LL measur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In high seas between 2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N and 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S and compatible with EEZ meas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otal effort limit (vessel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otal effort limit (days) monitored through VMS (similar to VDS-like sche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otal catch lim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25% reduction  in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Closed areas/seasons (in addition to above measur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Observer requirem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osure of high seas pocke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osures of high seas until measures develop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to address vulnerability in Eastern sect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itional effort from non-memb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UU effor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ket Pressure/ Certific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ture certification pressures/requirem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CS arrang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neral additional issu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us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us of the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g-eye and yellowfin measure which include compatible measure  eg VDS on High s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pirational r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Entr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2:15:46Z</dcterms:created>
  <dc:creator>Higgins Amy</dc:creator>
  <dc:description/>
  <dc:language>en-US</dc:language>
  <cp:lastModifiedBy>SANTANA LARA</cp:lastModifiedBy>
  <dcterms:modified xsi:type="dcterms:W3CDTF">2008-04-14T06:35:43Z</dcterms:modified>
  <cp:revision>19</cp:revision>
  <dc:subject/>
  <dc:title>Where to from here?</dc:title>
</cp:coreProperties>
</file>