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21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5.jpeg" ContentType="image/jpeg"/>
  <Override PartName="/ppt/media/image18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69192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16"/>
          </p:nvPr>
        </p:nvSpPr>
        <p:spPr>
          <a:xfrm>
            <a:off x="3919320" y="-36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Img"/>
          </p:nvPr>
        </p:nvSpPr>
        <p:spPr>
          <a:xfrm>
            <a:off x="1158480" y="690120"/>
            <a:ext cx="460044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ftr" idx="17"/>
          </p:nvPr>
        </p:nvSpPr>
        <p:spPr>
          <a:xfrm>
            <a:off x="0" y="874188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 type="sldNum" idx="18"/>
          </p:nvPr>
        </p:nvSpPr>
        <p:spPr>
          <a:xfrm>
            <a:off x="3919320" y="874188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C075-33B5-48D7-A910-4775F19A6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919680" y="8742240"/>
            <a:ext cx="2997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F079-540A-49B8-82EC-28A58A328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9533-46FC-428C-8D56-A374E4380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9D57-B6D4-46CA-ADB2-28743312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21C1-92B8-4620-816C-DBD90E011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F4E2-7BAF-4C93-97CB-23A87ADD5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4493-563E-476C-97A4-DCAC613AA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4890-9C9F-4332-B667-77E132E0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B498-FCA8-4A05-920F-F1AF4604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559F-3D33-45FA-A96D-F0D830E3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42E8-744A-423C-B11E-2FED94E6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E449-6976-4632-A74A-2CE08AAD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22CB-0B60-420D-871E-AB0A05D8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61AF-8B53-4659-91B8-8C43AF6E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E321-9759-4E98-B0E5-9E23F9A0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1C71-2979-460B-B8E6-5F2FEEEB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E37C-0CD1-4D5F-850F-CAED8A6F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C9E0-61B1-4364-BBDA-23CA9E8A1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3401-4010-4793-9C25-1AB68B7E8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455F2E-0B5B-4854-89DA-4DD4E43D1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1D349C-4754-4C5B-AE9D-505278D8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7C1A8E-F0C8-4C5F-9C24-59F2E6A5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F21210-4E79-4519-9A30-58D4FDF8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2990F7-58DC-42EC-AFD9-33ABFE6A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3481-5597-47AD-A888-F0A8B9F4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6D8169-1615-4764-B537-1271F9C2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E59075-93FB-4C38-A3F8-8207C67C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CF5F41-F255-49A9-B55B-884DC151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4369C6-513A-409C-A61B-6D86A091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3A2E56-5E81-4388-92B7-64A35615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2F3254-9CD7-43FD-AACE-A59D7F16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FBEF59-6D93-47EA-A206-7F73261DA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CF345-9E3E-46B3-9F8C-5A15865DB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832F0-9AC5-479C-9FBA-32709C84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C3D00-38AF-4C26-A642-1E8A663E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7073-674D-41D6-BBCA-9C512EFE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AF2D8-E599-42EF-A274-062371A7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3EDDE-44DC-43A4-BCA3-C8D88EAC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7DA7A-A413-460B-929F-AE66B3F0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EC641-4819-4AB6-8A23-FA1A16C3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5090D-5781-485D-865F-D76F3EC3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27D9E-DA2E-4BD8-B911-70E5E8A8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181A6-2F4D-405B-A895-CBD4D2D3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20A38-ADC0-4E57-92F9-5088E0578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B67D8-7C17-48FE-99E0-D1987564B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58C85-8583-415A-B278-E448D600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57D0-8B7C-4F8F-AC4B-0337EA3B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9A331-FEDC-4486-91AD-3BE81F91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09BD1-84CE-4E71-98D8-6F25438C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19120-0865-4974-B954-DEA0BB96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5CED2-E8F3-4120-A5CA-0858C560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54FE8-A50E-48F3-93E3-555ACA9A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6AE6D-95FF-4CA3-9F70-CF66FC45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DF136-3329-4251-9521-E98CF74F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F46E4-8842-4E3C-986D-DE5B8F9C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3767E-9982-4E94-BF6C-C3DD50AB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17431-820D-463A-A8E2-16A8AF588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2F9D-6633-44A0-9BD0-49387D75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20B60-6118-44FE-B465-71E16DF26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9CB7-B1B6-4B4B-827C-92ECC023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5118-0FCC-45D2-9E9F-AD3F4558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4F3F-4278-4F27-83D9-F5DDA56C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931F-0329-434B-AC98-9CCA9D869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E145-1918-44D8-BAB7-CCC1C9037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F5C5-82FA-4344-B7E4-5569ADB63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ABE7-1F71-4D7C-98FA-3F8039C550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06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3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1228-7ADB-4A19-B6D5-D1BDD8B56E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90512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4760" y="2759040"/>
            <a:ext cx="518148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Managing bigeye &amp; yellowfin tuna in the WCPO: </a:t>
            </a:r>
            <a:br>
              <a:rPr sz="6000"/>
            </a:b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the Hawaii perspectiv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0B9760-51B9-4D19-9A54-FB85F8EEB4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45960" y="233280"/>
            <a:ext cx="808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AWAII PELAGIC FISHERIES AS PERCENTAGE OF TOTAL PACIFIC OCEAN BIGEYE TUNA CATCH (2004)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763120" cy="37339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15960" y="2176560"/>
            <a:ext cx="1706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7.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19920" y="3333600"/>
            <a:ext cx="2666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WAII LONGLINE FISH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3%(4% of WCP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5191200" y="3984480"/>
            <a:ext cx="170640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166840" y="2682720"/>
            <a:ext cx="62064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556272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*WPFRMC. 2006. Amendment 14 to the Fishery Management Plan for the Pelagic Fisheries of the Western Pacific Region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BCCFB-2F20-4E25-88BA-EDDD61F433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04920" y="30492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AWAII LONGLINE FISHERY % OF TOTAL NO. OF LONGLINE VESSELS OPERATING IN THE WESTERN AND CENTRAL PACIFIC FISHERIES CONVENTION AREA (2004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52280" y="2286000"/>
            <a:ext cx="8763120" cy="3200400"/>
            <a:chOff x="152280" y="2286000"/>
            <a:chExt cx="8763120" cy="3200400"/>
          </a:xfrm>
        </p:grpSpPr>
        <p:pic>
          <p:nvPicPr>
            <p:cNvPr id="326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0"/>
              <a:ext cx="876312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539640" y="2584440"/>
              <a:ext cx="170676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OTHER N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97.3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65760" y="3576600"/>
              <a:ext cx="170676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AWAII LONGLINE FISHE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.7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114520" y="4133520"/>
              <a:ext cx="170676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90880" y="3017880"/>
              <a:ext cx="62064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28600" y="5486400"/>
            <a:ext cx="86104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illiams, P. and C. Reid. 2005. Overview of tuna fisheries in the western and central Pacific Ocean, including economic conditions – 2004. Meeting of the Scientific Committee of the Western and Central Pacific Fisheries Commission, WCPFC-SC-1, Noumea, New Caledonia, 8-19 August 2005. GN WP-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PRFMC. 2005. The Pelagic Fisheries of the Western Pacific Region Annual Report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5F814-7EE5-4450-8A7A-6AFF58EC46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934040" cy="47592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870360" y="341280"/>
            <a:ext cx="374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152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tribution of Hawaii Longline Fishery to the Total Observed Effort (32.22 million hooks) in the Western and Central Pacific between 2001 and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450C5-CF0D-47B5-B7A3-8DA3EB532C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shing effort north and south of Hawa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rcRect l="9775" t="4392" r="13673" b="24241"/>
          <a:stretch/>
        </p:blipFill>
        <p:spPr>
          <a:xfrm>
            <a:off x="1905120" y="1752480"/>
            <a:ext cx="5562360" cy="49532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540160" y="6703920"/>
            <a:ext cx="4689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28800" y="30081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C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16440" y="48006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5F88-7151-4842-9C8F-6822FA328A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CPO yellowfin and bigeye size frequency by gear type. Source: SPC-O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543800" cy="479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75D5-78BB-45C8-BD77-E336840902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6320" y="925560"/>
            <a:ext cx="2438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Not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is pr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antly juven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ub-adult fish, especially in Region 4. Sou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971800" y="762120"/>
          <a:ext cx="5886360" cy="28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762120"/>
                    <a:ext cx="588636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2971800" y="3951360"/>
          <a:ext cx="5943600" cy="2657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3951360"/>
                    <a:ext cx="594360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 flipH="1">
            <a:off x="4209840" y="453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873680" y="43434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60520" y="43434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597800" y="45543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819320" y="14889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83160" y="129528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36840" y="1295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74120" y="1506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44364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46120" y="16905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008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28560" y="42814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6F0E-C83B-46E6-A1E8-7BBD4A3893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Yellowf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Sourc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895480" y="3444840"/>
          <a:ext cx="5359680" cy="27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444840"/>
                    <a:ext cx="53596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 flipV="1">
            <a:off x="5867280" y="86364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819520" y="457200"/>
          <a:ext cx="5419440" cy="2712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457200"/>
                    <a:ext cx="541944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 flipV="1">
            <a:off x="5943600" y="939600"/>
            <a:ext cx="0" cy="1726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952960" y="3867120"/>
            <a:ext cx="0" cy="1727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96216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48320" y="85248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631920" y="8380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69200" y="1039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869800" y="3657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733560" y="41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88620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708240" y="38862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445520" y="4087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78680" y="1295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28560" y="10666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76FE-678B-4E92-BA0A-769D886D50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k size/type does not show much variation in size selection. Source: Kim et al (2006) WCPFC-SC2-2006/EB WP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rcRect l="0" t="1407" r="0" b="0"/>
          <a:stretch/>
        </p:blipFill>
        <p:spPr>
          <a:xfrm>
            <a:off x="1905120" y="1295280"/>
            <a:ext cx="5867280" cy="53434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770040" cy="17524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533520" y="2917800"/>
            <a:ext cx="992160" cy="18828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609480" y="4876920"/>
            <a:ext cx="96228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1C42-FA4D-44D6-AD61-766F2C11B9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Longline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ize: how small? Hawaii fleet average size = 108-114 cm bigey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high survival of properly handled released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quota: Hawaii = 5000 mt?, Am Samoa-Guam-CNMI 2000 mt each? Time limits on achieving 2000 mt? (Other major US longline fishery in Am Samoa currently catch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≈ 200 mt bigeye annu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d season: how long, and 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et set limits? Limits on hooks per set? Vessel d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for pre-existing management measures: limited entry, area closures around MHI, NWHI and Am. Samoa, bycatch limits, e.g. turtle ca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EBB4-40AC-4860-8B05-F0A55E065B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bigeye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914400" y="1677960"/>
            <a:ext cx="7467480" cy="4494240"/>
            <a:chOff x="914400" y="1677960"/>
            <a:chExt cx="7467480" cy="4494240"/>
          </a:xfrm>
        </p:grpSpPr>
        <p:graphicFrame>
          <p:nvGraphicFramePr>
            <p:cNvPr id="297" name=""/>
            <p:cNvGraphicFramePr/>
            <p:nvPr/>
          </p:nvGraphicFramePr>
          <p:xfrm>
            <a:off x="914400" y="1677960"/>
            <a:ext cx="7467480" cy="4494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1677960"/>
                      <a:ext cx="7467480" cy="449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9" name=""/>
            <p:cNvSpPr/>
            <p:nvPr/>
          </p:nvSpPr>
          <p:spPr>
            <a:xfrm>
              <a:off x="2820960" y="37339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S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34C0-F6E8-4AF3-8A74-5BBE5B6F2E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yellowfin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066680" y="1828800"/>
          <a:ext cx="7086600" cy="464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08660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278E-F710-476F-AB97-502E72E6B8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0" y="104472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al characteristics that could be considered when developing management options for bigeye targeting longline fisheries in the Hawaii fis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eye is the target species and is the revenue driver for the fishery and generates approximately 60% ex-vessel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.S. longline fisheries most species are retained and sold and contribute to the economic viability of the fishery. Main discards are lancet fish and blue sha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 fish markets require consistent supply requiring compatible manage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CC89-104A-4413-A263-6DE895A513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sts are comparatively high as trips are short, with travel and port days reducing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 fishery is characterized by relatively low volumes of high value landings. Honolulu ranks low volume-wise in the US fish port landings, but is 4th in terms of landed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domestic market relies almost entirely on the Hawaii longline fishery bigeye ca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bigeye tuna is extremely important both economically and culturally to the Hawaii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EA9D-5535-4F78-8642-DA83FE4E9D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mited entry program, maximum fleet size of 164 vessels, current fleet size since 1992 fleet has been stable at around 120-125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shery has maximum size limit of 101 ft. Average size 70 ft and size range of 42 -98ft in leng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books and observers are mandatory, with 20% observer coverage in tuna fleet, 100% in swordfish fle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0-75-nm longline area closure around entire Hawaii (25% of EEZs), Archipelago to minimize protected species interactions and interactions and competition with small vessel troll and handline fle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MS mandatory on all Hawaii longline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these measures pre-date the FAO Code of Conduct For Responsible Fishe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39D5-57B6-4240-81A1-DF18AB7C8E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catch mitigation measures for turtles (circle hooks, mackerel type bait, de-hookers, turtle handling requirements) and seabirds (weighted hooks, line shooters, blue dyed bait, night setting for swordfish boats). Measures apply &gt; 23 deg N lat for tuna vessels and at all latitudes for swordfish vesse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ordfish fishery constrained by effort (50% of 1994-1999 average = 2240 sets) with set certificates, plus hard caps on leatherback (16) and loggerhead (17) turt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ep setting is defined in regulations, with minimum number of hooks between floats and minimum (20 m) float line lengths and minimum depth of sag, plus no light-sticks, plus cap (10) on swordfish re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nual protected species certification required for vessel owners and oper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landings of shark fins without carcasses, or fins must be 5% of landed total shark we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CG boards about 30% of fleet annually for at sea insp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0AB4-7102-4518-B50C-3E3FACC592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waii longline fishery fleet size. Note relative stability since 199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rcRect l="0" t="0" r="0" b="3029"/>
          <a:stretch/>
        </p:blipFill>
        <p:spPr>
          <a:xfrm>
            <a:off x="228600" y="2133720"/>
            <a:ext cx="83059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6F3B-A2C6-4684-9F6B-BD5FB05C08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fishery has increased hooks set over time, but with major increase following swordfish closure in 2001 and, more recently increasing fuel cost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ource: NMFS-PIFSC &amp; WPac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685800" y="1828800"/>
          <a:ext cx="7924680" cy="469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924680" cy="46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DB94-B608-41CB-B3FA-695E49E0BE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0:41:39Z</dcterms:created>
  <dc:creator>Paul Dalzell</dc:creator>
  <dc:description/>
  <dc:language>en-US</dc:language>
  <cp:lastModifiedBy>LaptopAccount</cp:lastModifiedBy>
  <dcterms:modified xsi:type="dcterms:W3CDTF">2008-03-28T22:39:00Z</dcterms:modified>
  <cp:revision>22</cp:revision>
  <dc:subject/>
  <dc:title>Bigeye tuna: the Hawaii longline perspective</dc:title>
</cp:coreProperties>
</file>