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31FB-C934-4E6E-9BC6-21A080D38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C7FF-66CA-427E-A53A-28B04641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A214-A17E-4A5D-8F95-9E5869FC3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A525-D1F1-47EE-9E8C-B360EEFBE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2F1E-3168-4F88-AD38-07524C3D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743B-A69F-485C-A93A-347F6EC3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6B1B-6EFA-4190-A447-F58C312A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533D-1F74-485B-8FF9-3A978995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2825-4698-4EE0-A677-6CD626FF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FA73-BB8E-43A3-9938-E27F775D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215C-A6BA-4FE9-BC70-2F4D9A40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97A9-EAE3-429E-9AB9-46974993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055C-DFEA-48E8-A1CF-751B2B67D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Bookman Old Style"/>
              </a:rPr>
              <a:t>SUSTAINABLE TUNA FIS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ookman Old Style"/>
              </a:rPr>
              <a:t>TROUBLE BRE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GOs are campaigning aggressively in the market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ealing to retailers and consu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expect more of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tification is a growth indust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least six certification organis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expect more – a sure sign that their services are in de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markets are listening and acting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insbury &amp; Waitrose in the 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l Mart in the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ajor Brands have heard the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mers are being given negative messages about the health of tuna sto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he only messages are negative many will stop bu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una market will dec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STAINABILITY IS A MAJOR ISSUE FOR THE NEXT DECAD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F WE DON’T ACT NOW OTHERS WILL ACT FOR 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619280" y="760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ervation Measures We N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acity Limitation – well capacity or vesse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ive enforcement of the V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closure 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ating object closure, with 100% observer coverage WITH NO EXEM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asur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essels in the Commission Area to regi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essels to operate Commission VMS at all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me Thoughts on F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y fuel efficient way of catching – much ‘greener’ than school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ats cannot simply switch back to school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chools are not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less all FO’s are lifted, they will keep aggreg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re on F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some vessels a FAD closure would be the same as total clo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fuel over $1,000/tonne some boats won’t go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reduction of catch and supply to processors could be substant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we do not agree effective conservation measures soon, tuna markets may go into decline as consumers “turn off” tu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 would have dire consequences for every one of the fishery’s particip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clining Re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CHES OF YELLOWFIN AND BIGEYE ARE DECLINING IN EVERY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7240" y="69840"/>
          <a:ext cx="9015480" cy="64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69840"/>
                    <a:ext cx="9015480" cy="64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4240" y="84240"/>
          <a:ext cx="9016920" cy="64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40" y="84240"/>
                    <a:ext cx="9016920" cy="64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440" y="303120"/>
          <a:ext cx="9139320" cy="60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303120"/>
                    <a:ext cx="9139320" cy="60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84240"/>
          <a:ext cx="9172440" cy="646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4240"/>
                    <a:ext cx="9172440" cy="64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ld Wid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GEYE &amp; YELLOWFIN ARE CONSIDERED TO BE EITHER FULLY OR OVER EXPLOITED IN EVERY OC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FMOS: POOR REPUT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BLE TO AGREE LONG TERM CONSERVATION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BLE TO ENFORCE WHAT MEASURES THEY DO EN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S TAKEN BY CONSENSUS – LOWEST COMMON DENOM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t NGOs Have Taken N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 wildlife/environmental NGOs are focusing more attention on tuna fishe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cus not only on sustainabi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so on equity &amp; returns to resource ow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-catch and discard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10:08:06Z</dcterms:created>
  <dc:creator>Tri-Marine International Pte Ltd</dc:creator>
  <dc:description/>
  <dc:language>en-US</dc:language>
  <cp:lastModifiedBy>Tri-Marine International Pte Ltd</cp:lastModifiedBy>
  <dcterms:modified xsi:type="dcterms:W3CDTF">2008-03-31T01:22:24Z</dcterms:modified>
  <cp:revision>14</cp:revision>
  <dc:subject/>
  <dc:title>SUSTAINABLE TUNA FISHING</dc:title>
</cp:coreProperties>
</file>