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EFBC5-94D8-4CEC-BAEC-246388E6B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F7A75-C0DC-4F20-BDC4-9976ABB94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42A41-601B-4205-958E-30D07C0A6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8D209-8B66-4ABC-8612-146ED489A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EAE24-62EC-44A2-9D2C-2E7F7F715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B7F68-C993-4C83-ABBF-8E8838FE2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7C127-CDB6-4A15-BC64-86B570729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00881-68B3-4642-84F9-6477619DA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B83F2-E31E-4C12-A2F0-54DA0F3F7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06590-1F6D-43CF-96FA-AF9BE52EE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00AA1-A936-4EA4-88A3-A0E7564A4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F6793-9DF0-4605-B9A9-9A034A1F1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7B0B6-E198-46B6-AF14-F02DCA64E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117C9-6E75-4C68-8465-DEABAE989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CD8B5-AB72-48B7-8FE1-8A6B73F09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D7E05-219B-4ADE-934D-C32653A10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B6DF1-1E14-45B3-8253-519264BCB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92D49-385F-4EB7-A779-A57E5933B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DE2C5-4A9B-45E0-B66D-042012259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B342C-8ED4-4704-A612-33B5FF116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ABF55-29EE-4028-9FC3-B719109FE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71C97-714C-47A5-AB30-EF0C1D5BA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A2B04-A894-4786-94C7-CA97AC093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32C33-B88C-438A-A89E-4FE79E663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86737-926A-4211-9B8B-7C721D30887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1E202-8433-4E6B-BC87-A58CB379E12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e5ffff"/>
                </a:solidFill>
                <a:latin typeface="Tahoma"/>
              </a:rPr>
              <a:t>Chairs meeting WCPFC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258920" y="1916280"/>
            <a:ext cx="6400800" cy="36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Welcom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Leaving Gua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Two key issues for 2008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Why an informal meet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Structure of the meet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What are the outcomes of the meeting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e5ffff"/>
                </a:solidFill>
                <a:latin typeface="Tahoma"/>
              </a:rPr>
              <a:t>Leaving Guam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Unable to deliver on Big eye and yellowfin resolu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Expectation from civil society that we wil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A lot of pressure to join the Commission and exploit the resources of the WCPFC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Lack of understanding of what it was we were trying to manage in its full sense. PS and L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Need to try something difference to get a result in Busa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e5ffff"/>
                </a:solidFill>
                <a:latin typeface="Tahoma"/>
              </a:rPr>
              <a:t>The two key deliverabl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A Conservation measure for big-eye and yellowfin tuna that deals effectively with reducing the catch on these speci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Compatible measures on the high seas…..what does it mea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Complicated by Article 10 and discussion on rights of small island state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Complicated by the desire to continue to harvest skipjack at current level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Complicated by a number of issues people are uncomfortable talking about i.e. how we interpret CM’s, what's a compatible measure, what do we want from the fishery etc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e5ffff"/>
                </a:solidFill>
                <a:latin typeface="Tahoma"/>
              </a:rPr>
              <a:t>Structure of the meeting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New agend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Presentations and workshop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Industry presentations why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Informal meeting no Commission stand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Not looking for agreement or resolution or a draft meas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Chair may draft afterwards to begin a formal proce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Goodwil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e5ffff"/>
                </a:solidFill>
                <a:latin typeface="Tahoma"/>
              </a:rPr>
              <a:t>Outcom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Getting to Busa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Need a workable resolution early in the proces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Need to understand how to manage this fishe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Need to understand what compatible measures actually mea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This meeting should develop a greater understanding of the complexity of our challeng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I am happy just to have the discussion with you it can only help our understanding and contribute to a resolu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Thanks for coming - your participation is  genuinely appreciat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1T10:44:00Z</dcterms:created>
  <dc:creator>Computer</dc:creator>
  <dc:description/>
  <dc:language>en-US</dc:language>
  <cp:lastModifiedBy>Computer</cp:lastModifiedBy>
  <dcterms:modified xsi:type="dcterms:W3CDTF">2008-03-31T11:12:53Z</dcterms:modified>
  <cp:revision>5</cp:revision>
  <dc:subject/>
  <dc:title>Chairs meeting WCPFC</dc:title>
</cp:coreProperties>
</file>