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2122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DF35F-E5A7-412E-BCC0-235EE412D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90BE7-041D-4F30-B8CA-DB03E63E8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C20CE-D2ED-4E6B-9A5C-C03373006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9BFE6-AE8B-4F04-AFCA-87E8AAE8E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14ACF-7CB4-472C-9477-E65E4D2F7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5943F-F934-4B3E-BBE1-105E9D890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8B633-CEEE-4419-95A7-CD1132CCA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3EB14-557E-4746-9F84-7F6D4F8BD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54C37-05D8-4852-8FBB-52850C605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E685D-7FB9-4AD0-BBAB-5D431317B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F3155-5565-4754-AA50-476F53D7B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FA3FD-D793-4330-A14F-3646110BD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513BB-C1C0-4397-879A-34395B2F6A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PACIFIC ISLAND COUNTRIES/PNG VIEW ON BIGEYE &amp; YELLOWFIN ISSU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THE SITU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692280"/>
            <a:ext cx="822960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cience clearly show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tate of the sto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has to be d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stop overfishing of bigey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longlining on adult bigey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the impact of FADs on juven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maintain the yellowfin st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ain overall catc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juvenile catches especially in Indonesia &amp; Philippin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also plan to make optimum use of the albacore and skipjack stoc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IN GU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FA Propos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tch reten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 month FAD clos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5% longline bigeye catch re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100% observer cover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de in good faith/didn’t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o complex, too many interests, not enough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NEXT STE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50560" y="765000"/>
            <a:ext cx="871380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NA Members/PICs have agreed to apply in their EEZs from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tch ret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month 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quarter FAD clo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lly 100% observer cove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future, PNA Members/PICs, not the Commission, will adopt and apply measures for their EEZ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ill allow the Commission to focus on its 2 main job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ing overall stock status, limits and stand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ying compatible measures in the high seas including limits to fishing effort and M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896472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ahoma"/>
              </a:rPr>
              <a:t>SUPPLEMENTARY BIGEYE &amp; YELLOWFIN CMM AT WCPFC5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87854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atible High Seas Meas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ffective high seas purse seine effort limit – closure after X days limit, monitored by VMS (???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 seas catch reten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 month high seas FAD clos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0% high seas PS observer cover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closure of 3 high seas pockets?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5% longline bigeye catch limit re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zone-based tropical longline management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NO COMPATIBLE HIGH SEAS MEASURES, CLOSE THE HIGH SEAS UNTIL THERE 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NG In Zone Meas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addition to management plans, MTCs, PNG has introduced new in zone measure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osed Morgardo Square, Archipelagic wa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osing 50 nautical mile corridor PNG/Indonesia northern bor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DS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5% FADS re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539640" y="549000"/>
            <a:ext cx="822960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ACIFIC ISLAND COUNTRIES WILL NOT AGREE TO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rse seine capacity lim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rse seine time/area closures in EEZ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BEYOND 200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to  move beyond ad hoc piecemeal meas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ve to longer term strategic measures based on reference points and TACs/TA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19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5T04:58:00Z</dcterms:created>
  <dc:creator>Les</dc:creator>
  <dc:description/>
  <dc:language>en-US</dc:language>
  <cp:lastModifiedBy>Justin Ilakini</cp:lastModifiedBy>
  <dcterms:modified xsi:type="dcterms:W3CDTF">2008-03-31T23:08:46Z</dcterms:modified>
  <cp:revision>26</cp:revision>
  <dc:subject/>
  <dc:title>PACIFIC ISLAND COUNTRIES VIEW ON BIGEYE &amp; YELLOWFIN ISSUES</dc:title>
</cp:coreProperties>
</file>