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CF47C-832D-42D4-9CB0-8856A503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A1AA-A7D2-49A8-8B3E-D4F740F37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CDE8-D555-4708-86C2-8063666E3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423D-EDBA-433F-A83F-099761409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7238-199F-4C51-86C1-2A029181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82B8-54A1-4E4B-9B00-F02F579CE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CF93-D912-46F7-A5EC-0D4361110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4237-E9F9-4040-BE68-2248F29A4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58BD-A9DE-4B17-8F5D-2D8C165CE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29335-E1BE-43DC-9683-079E636DB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C578-BFEC-4AD0-AC43-CDB79039D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D0EF-E34C-4018-AAB2-16BC26E4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95EF2-4863-4C15-BBD8-A32C3D3A8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ing Patterns of Fleets and EEZ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vesse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line effort, bigeye catch, CP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47800" y="1266840"/>
            <a:ext cx="56484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cal Longline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09840" y="1066680"/>
            <a:ext cx="61243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line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1T11:21:00Z</dcterms:modified>
  <cp:revision>17</cp:revision>
  <dc:subject/>
  <dc:title>Overview of Tuna Stock Status in the WCPFC Area</dc:title>
</cp:coreProperties>
</file>