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392D-45A5-45D9-BF5F-71FDEE55B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8C5C-72B7-4116-9BE0-0185F193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7572-9C7B-4889-867E-092E27721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0FBD-E22B-43DA-897C-229626A8B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2B347-E3EB-43FF-A002-37363E717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3F36F-1749-4BDD-B09E-DC7124F5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BEB3-3CE1-4436-A638-4F676FB5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A9AE-892B-4931-9577-862152D4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CEA6-71CC-459B-A822-EAACCC41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3629-2BFE-41F6-A5C5-58C003C2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2CFF-EE0C-4B2E-B173-2E85B80A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82BD-8FDB-4249-92C3-40349550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E7F2-7CA5-49A4-B858-47537785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FEAE4-7455-44CE-9756-B988AB80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3989-7627-41E2-8C85-22B4E04B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167B-C016-413F-AAA6-1216EE123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8327-F859-43C5-8FC8-4A07D6CC8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3EE4-E9DB-4108-A76E-4E56BF3F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7577-8CC0-43FD-9425-A9B7BF3A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0FE1-B800-4226-AD0A-0EB770EB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EA89-85C5-4D9F-81A8-882CC699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28D0-90FF-4E4F-A125-27F1CA91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9066-FE68-4C0F-BEA9-43E7B1BE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A586-F9F1-4041-AABE-9A028D54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4010-AB14-41EC-8D4A-01E29AD295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4FF9-788D-4228-9D34-CBD2960B86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Chairs meeting WCPFC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58920" y="1916280"/>
            <a:ext cx="64008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elc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Leaving Gu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wo key issues for 20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y an informal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Structure of the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at are the outcomes of the meet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Leaving Gua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Unable to deliver on Big eye and yellowfin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Expectation from civil society that we wi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A lot of pressure to join the Commission and exploit the resources of the WCPF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Lack of understanding of what it was we were trying to manage in its full sense. PS and 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try something difference to get a result in Bus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The two key deliverab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 Conservation measure for big-eye and yellowfin tuna that deals effectively with reducing the catch on these spec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atible measures on the high seas…..what does it me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Article 10 and discussion on rights of small island stat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the desire to continue to harvest skipjack at current level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a number of issues people are uncomfortable talking about i.e. how we interpret CM’s, what's a compatible measure, what do we want from the fishery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Structure of the mee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ew agen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Presentations and worksho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dustry presentations wh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formal meeting no Commission sta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ot looking for agreement or resolution or a draft meas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Chair may draft afterwards to begin a formal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Goodw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Outcom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Getting to Bus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a workable resolution early in the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understand how to manage this fish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understand what compatible measures actually me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is meeting should develop a greater understanding of the complexity of our challen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 am happy just to have the discussion with you it can only help our understanding and contribute to a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anks for coming - your participation is  genuinely appreci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10:44:00Z</dcterms:created>
  <dc:creator>Computer</dc:creator>
  <dc:description/>
  <dc:language>en-US</dc:language>
  <cp:lastModifiedBy>Computer</cp:lastModifiedBy>
  <dcterms:modified xsi:type="dcterms:W3CDTF">2008-03-31T11:12:53Z</dcterms:modified>
  <cp:revision>5</cp:revision>
  <dc:subject/>
  <dc:title>Chairs meeting WCPFC</dc:title>
</cp:coreProperties>
</file>