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85F3-561F-47B1-A2F7-052C37024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A355-FC17-4F38-8E06-9CF10C7F3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276C-0413-4E5A-B3D3-15CC0540E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E2B2-43E4-43D9-8C14-5FD604ECF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217A-1959-40A3-A731-6FCDD1A14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FAF5-68B0-4C17-A17E-7D4F3757A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FBD9-FE59-4654-9710-3EC5FAC3F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DC99-B746-4C32-96B5-AE86B2A7A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AD0F-DACF-4891-9771-4B3A4B053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5D45-F2D1-4330-B3E2-709AC9398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09EF-E46E-44A9-874F-3A1439F7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2D28-C37A-41CB-9EB1-2E62FE50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9945B-D6A9-4886-B906-10A810C54D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shing Patterns of Fleets and EEZ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Hamp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eanic Fisheries Program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ariat of the Pacific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se seine set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fl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E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se seine vessel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line effort, bigeye catch, CP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fl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E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 by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219320" y="1339920"/>
            <a:ext cx="7075440" cy="54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 by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219320" y="1336680"/>
            <a:ext cx="7065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 by E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19320" y="1339920"/>
            <a:ext cx="7075440" cy="54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 by E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19320" y="1336680"/>
            <a:ext cx="7065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Op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747800" y="1266840"/>
            <a:ext cx="5648400" cy="55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opical Longline by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09840" y="1066680"/>
            <a:ext cx="612432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ngline by E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31520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22:49:33Z</dcterms:created>
  <dc:creator>johnh</dc:creator>
  <dc:description/>
  <dc:language>en-US</dc:language>
  <cp:lastModifiedBy>johnh</cp:lastModifiedBy>
  <dcterms:modified xsi:type="dcterms:W3CDTF">2008-03-31T11:21:00Z</dcterms:modified>
  <cp:revision>17</cp:revision>
  <dc:subject/>
  <dc:title>Overview of Tuna Stock Status in the WCPFC Area</dc:title>
</cp:coreProperties>
</file>