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FCF6-60B3-4493-B4BE-FF89B6C2E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7165-5C89-4308-A021-712D6BA87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1220-ABB8-4920-A683-6B9FF0F51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C7D6-2953-4FD7-86A4-8FE02DC74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970D-6535-49A8-B281-6DC075E2E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04AB-A514-463B-BF9B-1CBC0ABB3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AAFB-2596-4C02-BF7F-326D95167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C517-5595-4B4C-8AF2-C729E3AFD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3BFD-F316-4AF6-B689-3CA6B9F7B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283D-4764-433A-875C-C317270E3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4591-00B7-41D3-8F06-6FC8919F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C788-DC4B-40D9-9869-48A18A6A5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7B9B5-E3AD-4665-8638-453E7203C0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shing Patterns of Fleets and EEZ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Hamp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eanic Fisheries Program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ariat of the Pacific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se seine set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fl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E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se seine vessel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line effort, bigeye catch, CP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fl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E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 by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219320" y="1339920"/>
            <a:ext cx="7075440" cy="54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 by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219320" y="1336680"/>
            <a:ext cx="7065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 by E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19320" y="1339920"/>
            <a:ext cx="7075440" cy="54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 by E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19320" y="1336680"/>
            <a:ext cx="7065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Op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747800" y="1266840"/>
            <a:ext cx="5648400" cy="55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opical Longline by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09840" y="1066680"/>
            <a:ext cx="612432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ngline by E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31520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22:49:33Z</dcterms:created>
  <dc:creator>johnh</dc:creator>
  <dc:description/>
  <dc:language>en-US</dc:language>
  <cp:lastModifiedBy>johnh</cp:lastModifiedBy>
  <dcterms:modified xsi:type="dcterms:W3CDTF">2008-03-31T11:21:00Z</dcterms:modified>
  <cp:revision>17</cp:revision>
  <dc:subject/>
  <dc:title>Overview of Tuna Stock Status in the WCPFC Area</dc:title>
</cp:coreProperties>
</file>