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2871C-558E-4EA1-B141-5C3E7AC1EE0E}"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32040" y="741240"/>
            <a:ext cx="4935240" cy="3702240"/>
          </a:xfrm>
          <a:prstGeom prst="rect">
            <a:avLst/>
          </a:prstGeom>
          <a:ln w="0">
            <a:noFill/>
          </a:ln>
        </p:spPr>
      </p:sp>
      <p:sp>
        <p:nvSpPr>
          <p:cNvPr id="14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e 2006 stock assessment was based on limited species composition data, particularly with regards to data from Indonesia and the Philippines, and that results may change as data are refined.( para74 of WCPFC4 Summary Repor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2040" y="741240"/>
            <a:ext cx="4935240" cy="3702240"/>
          </a:xfrm>
          <a:prstGeom prst="rect">
            <a:avLst/>
          </a:prstGeom>
          <a:ln w="0">
            <a:noFill/>
          </a:ln>
        </p:spPr>
      </p:sp>
      <p:sp>
        <p:nvSpPr>
          <p:cNvPr id="14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o conclude, we think that some basic principles need to be addressed. First, </a:t>
            </a:r>
            <a:r>
              <a:rPr b="0" lang="en-GB" sz="1200" spc="-1" strike="noStrike">
                <a:solidFill>
                  <a:srgbClr val="000000"/>
                </a:solidFill>
                <a:latin typeface="Arial"/>
              </a:rPr>
              <a:t>the advice and recommendations should include consideration of the status of the stocks, fairness and equity and enforceability including the status of the implementation of MCS measures in the Commission. Second, d</a:t>
            </a:r>
            <a:r>
              <a:rPr b="0" lang="zh-TW" sz="1200" spc="-1" strike="noStrike">
                <a:solidFill>
                  <a:srgbClr val="000000"/>
                </a:solidFill>
                <a:latin typeface="Arial"/>
              </a:rPr>
              <a:t>ecisions must be made in consideration of the evaluation results of the SC4, and the workshop should be convened again after the SC4 to discuss the measures to be adopted. If the evaluation result is pessimistic, the catch limit should be reduced under the agreement of  CCMs. If the result is optimistic, the catch limit should be increased by equal proportion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2040" y="741240"/>
            <a:ext cx="4935240" cy="3702240"/>
          </a:xfrm>
          <a:prstGeom prst="rect">
            <a:avLst/>
          </a:prstGeom>
          <a:ln w="0">
            <a:noFill/>
          </a:ln>
        </p:spPr>
      </p:sp>
      <p:sp>
        <p:nvSpPr>
          <p:cNvPr id="14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5, the Commission adopted the Conservation and Management Measures 2005-01 for bigeye and yellowfin tuna in the Western and Central Pacific Ocean. In this measure, for the purse-seiners , it provides that CCMs shall take necessary measures to ensure that purse seine effort levels (in the area of the Convention bounded by 20N and 20S) do not exceed either 2004 levels, or the average of 2001 to 2004 levels, in waters under their national jurisdiction. For longliners, it provides that the catch of bigeye for each CCM for the next 3 years shall not exceed the average annual bigeye catch for the years 2001-2004 or the year 2004.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32040" y="741240"/>
            <a:ext cx="4935240" cy="3702240"/>
          </a:xfrm>
          <a:prstGeom prst="rect">
            <a:avLst/>
          </a:prstGeom>
          <a:ln w="0">
            <a:noFill/>
          </a:ln>
        </p:spPr>
      </p:sp>
      <p:sp>
        <p:nvSpPr>
          <p:cNvPr id="14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6, the Commission further adopted the Conservation and Management Measures 2006-01 for bigeye and yellowfin tuna in the Western and Central Pacific Ocean. In which, expand the range for management to other fisheries and requested that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1965D-89EB-4C32-AB35-DFC00423E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DE57E-BBBB-47BA-AF29-A8C041617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117A9-D5BF-400F-97A3-DEBAE319B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5511C-628E-460C-BFF9-E923645D7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E01008-5C79-4B3D-8468-86F0F36107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20055-A3C5-4D78-BCA9-1C40B314A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C16BC-7639-45C3-8333-42E7C2315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16D7C-47C5-4700-BD90-A197CA700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F9943-A508-4159-9128-C93E8FE1B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D4F9F-E5B1-441E-BBE9-4B630C576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5E558-48E8-4A51-AE0C-BF42A5A3A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6E085-C4A5-404A-8DF4-F70DF34EA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C1652-2F8F-4CD0-9CC8-947F88899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478F2-1800-4B2F-933B-F88ED76F8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0C18A-6A9F-43C7-806E-8B3EC5935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67C7B0-E19B-41BC-AA79-9191C98690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BF1E74-376B-495C-8F8B-843DBE1F07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8C403-642E-4D76-8E7C-3D31197EC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B6628-DA99-48EE-B629-27FC0570A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53BD0-479F-47EC-B86A-E24CA93F4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E3922-F20B-4C4C-BEB1-0FEF44BA2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BA8FF-6B5A-4054-B8E8-1C2B84B39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22635-D07A-4502-ABBB-E04A7B904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7C803-6496-4B3C-9DB1-7CFC8873C7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0878-AD72-4ADA-9635-837A79D32031}"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FC54F-9E45-4ED3-A984-3EE83B65156D}"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006633"/>
                </a:solidFill>
                <a:latin typeface="Garamond"/>
              </a:rPr>
              <a:t>Bigeye Longline Fishery in the WCPO and its Conservation and Management Perspective</a:t>
            </a:r>
            <a:endParaRPr b="0" lang="en-US" sz="46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Ho,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Taipei</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4/2008</a:t>
            </a:r>
            <a:endParaRPr b="0" lang="en-US" sz="24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6633"/>
                </a:solidFill>
                <a:latin typeface="Garamond"/>
              </a:rPr>
              <a:t>Reduction in Bigeye Catch by longline fishery of major CCMs</a:t>
            </a:r>
            <a:r>
              <a:rPr b="0" lang="zh-TW" sz="3800" spc="-1" strike="noStrike">
                <a:solidFill>
                  <a:srgbClr val="006633"/>
                </a:solidFill>
                <a:latin typeface="Garamond"/>
              </a:rPr>
              <a:t> </a:t>
            </a:r>
            <a:endParaRPr b="0" lang="en-US" sz="3800" spc="-1" strike="noStrike">
              <a:solidFill>
                <a:srgbClr val="006633"/>
              </a:solidFill>
              <a:latin typeface="Garamond"/>
            </a:endParaRPr>
          </a:p>
        </p:txBody>
      </p:sp>
      <p:sp>
        <p:nvSpPr>
          <p:cNvPr id="114" name=""/>
          <p:cNvSpPr/>
          <p:nvPr/>
        </p:nvSpPr>
        <p:spPr>
          <a:xfrm>
            <a:off x="539640" y="6021360"/>
            <a:ext cx="82090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11280" y="580536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nnual catch estimates, WCPFC Tuna Fishery Yearbook 2006.</a:t>
            </a:r>
            <a:endParaRPr b="0" lang="en-US" sz="1800" spc="-1" strike="noStrike">
              <a:solidFill>
                <a:srgbClr val="000000"/>
              </a:solidFill>
              <a:latin typeface="Arial"/>
            </a:endParaRPr>
          </a:p>
        </p:txBody>
      </p:sp>
      <p:graphicFrame>
        <p:nvGraphicFramePr>
          <p:cNvPr id="116" name=""/>
          <p:cNvGraphicFramePr/>
          <p:nvPr/>
        </p:nvGraphicFramePr>
        <p:xfrm>
          <a:off x="468360" y="1052640"/>
          <a:ext cx="8424720" cy="4709880"/>
        </p:xfrm>
        <a:graphic>
          <a:graphicData uri="http://schemas.openxmlformats.org/drawingml/2006/table">
            <a:tbl>
              <a:tblPr/>
              <a:tblGrid>
                <a:gridCol w="1536480"/>
                <a:gridCol w="1006560"/>
                <a:gridCol w="1005120"/>
                <a:gridCol w="1004760"/>
                <a:gridCol w="930240"/>
                <a:gridCol w="1006560"/>
                <a:gridCol w="930240"/>
                <a:gridCol w="1004760"/>
              </a:tblGrid>
              <a:tr h="68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2004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7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D=B-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E=D/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F=A-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G=F/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ndones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6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1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98.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Jap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93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81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2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8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3.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09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Kore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9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144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248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45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ese Taipe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9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8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429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6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US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5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Tot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15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48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66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7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 in Longline Fishery</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Arial"/>
              </a:rPr>
              <a:t>Summary</a:t>
            </a:r>
            <a:endParaRPr b="0" lang="en-US" sz="3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CMs have observed the CMM-2005-01 and CMM-2006-01 to limit their fishing efforts and catch.</a:t>
            </a:r>
            <a:endParaRPr b="0" lang="en-US" sz="2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of BET in 2006 by longline fishery has reduced by 20% from the average catch of 2001-2004, and 27% from the catch of 2004.</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0"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Reduction of Fishing Capacity: </a:t>
            </a:r>
            <a:r>
              <a:rPr b="0" lang="en-US" sz="2800" spc="-1" strike="noStrike">
                <a:solidFill>
                  <a:srgbClr val="000000"/>
                </a:solidFill>
                <a:latin typeface="Arial"/>
              </a:rPr>
              <a:t>scrapped 35 large-scale tuna longliners with ultra low-temperature freezer operating in the Convention Area in 2005-2007</a:t>
            </a:r>
            <a:r>
              <a:rPr b="0" lang="zh-TW" sz="2800" spc="-1" strike="noStrike">
                <a:solidFill>
                  <a:srgbClr val="000000"/>
                </a:solidFill>
                <a:latin typeface="Arial"/>
              </a:rPr>
              <a:t>, or 41% of the bigeye fleet in the Pacific.</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Limit the numbers of </a:t>
            </a:r>
            <a:r>
              <a:rPr b="0" lang="en-US" sz="2800" spc="-1" strike="noStrike">
                <a:solidFill>
                  <a:srgbClr val="000000"/>
                </a:solidFill>
                <a:latin typeface="Arial"/>
              </a:rPr>
              <a:t>large-scale</a:t>
            </a:r>
            <a:r>
              <a:rPr b="0" lang="zh-TW" sz="2800" spc="-1" strike="noStrike">
                <a:solidFill>
                  <a:srgbClr val="000000"/>
                </a:solidFill>
                <a:latin typeface="Arial"/>
              </a:rPr>
              <a:t> fishing vessels targeting bigeye in WCPO and set their individual quota.</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reduction resulted from the capacity reduction has been reflected from the catch of 2006 and onward. </a:t>
            </a:r>
            <a:endParaRPr b="0" lang="en-US" sz="2800" spc="-1" strike="noStrike">
              <a:solidFill>
                <a:srgbClr val="000000"/>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trict control of fishing activities, all vessels larger than 100 GRT are required to install VMS and report their positions 4 times a day. Promotion of installation of VMS on other vessels targeting tuna and tuna-like species are ongoing.</a:t>
            </a: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clear BET status??</a:t>
            </a:r>
            <a:endParaRPr b="0" lang="en-US" sz="34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008 stock assessment for BET is not yet complete. It is interesting to note that the 2007 stock assessment for YFT shows quite different scenario from 2006 and whether this may also happen to BET needs an update BET stock assessment.</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rmonized  Measures needed</a:t>
            </a:r>
            <a:endParaRPr b="0" lang="en-US" sz="34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BET and YFT are highly migratory species, and there were assumptions that BET and YFT are one stock in the entire Pacific Ocean, all measures in WCPO would be in vain if EPO does not adopt commensurate measures.</a:t>
            </a: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Arial"/>
              </a:rPr>
              <a:t>Impacts on socio-economic</a:t>
            </a:r>
            <a:endParaRPr b="0" lang="en-US" sz="34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It should be noted that longline fishery has achieved catch reduction of 27% after the adoption of the conservation measures. Coupling with the high oil price, heavy burdens are already put on the shoulders on fishermen. Consideration should be made whether further harsh measures may bring adverse effects to socio-economy of the fragile industry and cause it to collapse.</a:t>
            </a:r>
            <a:endParaRPr b="0" lang="en-US" sz="2800" spc="-1" strike="noStrike">
              <a:solidFill>
                <a:srgbClr val="000000"/>
              </a:solidFill>
              <a:latin typeface="Arial"/>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re are ups and downs in catch from year to year due to sea and climatic conditions, in order that there can be adjustments in catch, a system of carryover of underage or deduction of overage, as the one being applied in other RFMO should be considered.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at is, the overage of a year should be allowed to be deducted from the catch limit of the following years, and the underage be added to the following years as wel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2" name="PlaceHolder 2"/>
          <p:cNvSpPr>
            <a:spLocks noGrp="1"/>
          </p:cNvSpPr>
          <p:nvPr>
            <p:ph/>
          </p:nvPr>
        </p:nvSpPr>
        <p:spPr>
          <a:xfrm>
            <a:off x="250920" y="1447560"/>
            <a:ext cx="8642160" cy="49338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dvice and recommendations should take into consideration of the status of the stocks, fairness and equity and enforceability including the status of the implementation of MCS measures in the Commissio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s for the high seas and areas under national jurisdiction should be compatible in order to ensure conservation and management of highly migratory fish stocks in their entir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4" name=""/>
          <p:cNvGraphicFramePr/>
          <p:nvPr/>
        </p:nvGraphicFramePr>
        <p:xfrm>
          <a:off x="826920" y="1844640"/>
          <a:ext cx="7632360" cy="4176360"/>
        </p:xfrm>
        <a:graphic>
          <a:graphicData uri="http://schemas.openxmlformats.org/drawingml/2006/table">
            <a:tbl>
              <a:tblPr/>
              <a:tblGrid>
                <a:gridCol w="1687320"/>
                <a:gridCol w="2166120"/>
                <a:gridCol w="1986840"/>
                <a:gridCol w="1792080"/>
              </a:tblGrid>
              <a:tr h="772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le and l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urse se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 Tot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0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ve. 2001-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6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7,34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9,59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9,31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9,36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56,5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74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4,01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40,0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37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5,376</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7,1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 name=""/>
          <p:cNvSpPr/>
          <p:nvPr/>
        </p:nvSpPr>
        <p:spPr>
          <a:xfrm>
            <a:off x="1547640" y="981000"/>
            <a:ext cx="597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Bigeye Tuna Catch by Other Gear </a:t>
            </a:r>
            <a:endParaRPr b="0" lang="en-US" sz="2800" spc="-1" strike="noStrike">
              <a:solidFill>
                <a:srgbClr val="000000"/>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ont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escription of the longline fishe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 enforc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fforts of CC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xample of CCM’s effor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hallen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iscuss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endParaRPr b="0" lang="en-US" sz="30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 should apply to all commercial fisheries, including longline, purse-seine, hand-line, pole and line, ring-net and troll fisheries, that may have effects on the bigeye and yellowfin tuna resources, but excluding artisanal fishe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s should be made taking into consideration of the evaluation results of the SC4. A workshop such as this one should be convened again after the SC4 to discuss the applicable measures to save the debate in WCPFC5.</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generally believed that excessive catch of juvenile BET by surface fisheries is the major cause of the deterioration of the BET stock. (2007 FAO Fisheries Technical Paper 483, Global fishery resources of tuna and tuna-like specie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LL fishery has made tremendous effort in reducing catch, one should not expect this fishery to sacrifice further, if only little is done in other fisheries.</a:t>
            </a:r>
            <a:endParaRPr b="0" lang="en-US" sz="2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Bigeye Tuna Longline Fishery</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Bigeye Tuna (</a:t>
            </a:r>
            <a:r>
              <a:rPr b="0" i="1" lang="zh-TW" sz="2800" spc="-1" strike="noStrike">
                <a:solidFill>
                  <a:srgbClr val="000000"/>
                </a:solidFill>
                <a:latin typeface="Arial"/>
              </a:rPr>
              <a:t>Thunnus Obesus</a:t>
            </a:r>
            <a:r>
              <a:rPr b="0" lang="zh-TW" sz="2800" spc="-1" strike="noStrike">
                <a:solidFill>
                  <a:srgbClr val="000000"/>
                </a:solidFill>
                <a:latin typeface="Arial"/>
              </a:rPr>
              <a:t>) is a tropical species that dwells in the deep water layer of the ocean, spending most of their lives in cold waters below the upper mixed water layer, traditionally caught by longline gear.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ir fat content makes them desirable for the Japanese sashimi marke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Major longline fishery players in the Pacific: China, Indonesia, Japan, Korea, Chinese Taipei and USA</a:t>
            </a:r>
            <a:endParaRPr b="0" lang="en-US" sz="28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42920" y="1916280"/>
            <a:ext cx="6697800" cy="3806640"/>
          </a:xfrm>
          <a:prstGeom prst="rect">
            <a:avLst/>
          </a:prstGeom>
          <a:ln w="0">
            <a:noFill/>
          </a:ln>
        </p:spPr>
      </p:pic>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6633"/>
                </a:solidFill>
                <a:latin typeface="Garamond"/>
              </a:rPr>
              <a:t>Fishing Activities of Longline Fishery for Bigeye Tuna</a:t>
            </a:r>
            <a:endParaRPr b="0" lang="en-US" sz="3800" spc="-1" strike="noStrike">
              <a:solidFill>
                <a:srgbClr val="006633"/>
              </a:solidFill>
              <a:latin typeface="Garamond"/>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19120" y="-15876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Price Trend of Pacific BET in Japan 06/07-02/08</a:t>
            </a:r>
            <a:endParaRPr b="0" lang="en-US" sz="3200" spc="-1" strike="noStrike">
              <a:solidFill>
                <a:srgbClr val="006633"/>
              </a:solidFill>
              <a:latin typeface="Garamond"/>
            </a:endParaRPr>
          </a:p>
        </p:txBody>
      </p:sp>
      <p:graphicFrame>
        <p:nvGraphicFramePr>
          <p:cNvPr id="102" name=""/>
          <p:cNvGraphicFramePr/>
          <p:nvPr/>
        </p:nvGraphicFramePr>
        <p:xfrm>
          <a:off x="-330120" y="476280"/>
          <a:ext cx="11493360" cy="6381720"/>
        </p:xfrm>
        <a:graphic>
          <a:graphicData uri="http://schemas.openxmlformats.org/presentationml/2006/ole">
            <p:oleObj progId="Excel.Sheet.12" r:id="rId1" spid="">
              <p:embed/>
              <p:pic>
                <p:nvPicPr>
                  <p:cNvPr id="103" name="" descr=""/>
                  <p:cNvPicPr/>
                  <p:nvPr/>
                </p:nvPicPr>
                <p:blipFill>
                  <a:blip r:embed="rId2"/>
                  <a:stretch/>
                </p:blipFill>
                <p:spPr>
                  <a:xfrm>
                    <a:off x="-330120" y="476280"/>
                    <a:ext cx="11493360" cy="6381720"/>
                  </a:xfrm>
                  <a:prstGeom prst="rect">
                    <a:avLst/>
                  </a:prstGeom>
                  <a:ln w="0">
                    <a:noFill/>
                  </a:ln>
                </p:spPr>
              </p:pic>
            </p:oleObj>
          </a:graphicData>
        </a:graphic>
      </p:graphicFrame>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290520"/>
            <a:ext cx="7848720" cy="1077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uel Price in the Pacific in February 08</a:t>
            </a:r>
            <a:endParaRPr b="0" lang="en-US" sz="3800" spc="-1" strike="noStrike">
              <a:solidFill>
                <a:srgbClr val="006633"/>
              </a:solidFill>
              <a:latin typeface="Garamond"/>
            </a:endParaRPr>
          </a:p>
        </p:txBody>
      </p:sp>
      <p:graphicFrame>
        <p:nvGraphicFramePr>
          <p:cNvPr id="105" name=""/>
          <p:cNvGraphicFramePr/>
          <p:nvPr/>
        </p:nvGraphicFramePr>
        <p:xfrm>
          <a:off x="1143000" y="1916280"/>
          <a:ext cx="6781680" cy="3646080"/>
        </p:xfrm>
        <a:graphic>
          <a:graphicData uri="http://schemas.openxmlformats.org/drawingml/2006/table">
            <a:tbl>
              <a:tblPr/>
              <a:tblGrid>
                <a:gridCol w="1498680"/>
                <a:gridCol w="1498680"/>
                <a:gridCol w="1496880"/>
                <a:gridCol w="2287440"/>
              </a:tblGrid>
              <a:tr h="529920">
                <a:tc gridSpan="4">
                  <a:txBody>
                    <a:bodyPr lIns="0" rIns="0" tIns="0" bIns="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Dollars/Ton</a:t>
                      </a:r>
                      <a:endParaRPr b="0" lang="en-US" sz="2200" spc="-1" strike="noStrike">
                        <a:solidFill>
                          <a:srgbClr val="000000"/>
                        </a:solidFill>
                        <a:latin typeface="Arial"/>
                      </a:endParaRPr>
                    </a:p>
                  </a:txBody>
                  <a:tcPr anchor="ctr">
                    <a:lnL w="13680">
                      <a:solidFill>
                        <a:srgbClr val="000000"/>
                      </a:solidFill>
                    </a:lnL>
                    <a:lnR w="13680">
                      <a:solidFill>
                        <a:srgbClr val="000000"/>
                      </a:solidFill>
                    </a:lnR>
                    <a:lnT w="13680">
                      <a:solidFill>
                        <a:srgbClr val="000000"/>
                      </a:solidFill>
                    </a:lnT>
                    <a:lnB w="5760">
                      <a:solidFill>
                        <a:srgbClr val="000000"/>
                      </a:solidFill>
                    </a:lnB>
                    <a:solidFill>
                      <a:srgbClr val="66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208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evious month</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64400">
                <a:tc rowSpan="3">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C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j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Pago Pago</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2</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5</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rowSpan="2">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hit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8</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gridSpan="4">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y</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5-01</a:t>
            </a:r>
            <a:endParaRPr b="0" lang="en-US" sz="3000" spc="-1" strike="noStrike">
              <a:solidFill>
                <a:srgbClr val="000000"/>
              </a:solidFill>
              <a:latin typeface="Arial"/>
            </a:endParaRPr>
          </a:p>
          <a:p>
            <a:pPr lvl="1" marL="669960" indent="-325440" algn="jus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The catch of bigeye for each CCM for the next 3 years shall not exceed the average annual bigeye catch for the years 2001-2004 or the year 2004. (para 17)</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ey</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6-01</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Beginning in 2007,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para 1)</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Results from Abovementioned CMMs</a:t>
            </a:r>
            <a:endParaRPr b="0" lang="en-US" sz="4200" spc="-1" strike="noStrike">
              <a:solidFill>
                <a:srgbClr val="006633"/>
              </a:solidFill>
              <a:latin typeface="Garamond"/>
            </a:endParaRPr>
          </a:p>
        </p:txBody>
      </p:sp>
      <p:graphicFrame>
        <p:nvGraphicFramePr>
          <p:cNvPr id="111" name=""/>
          <p:cNvGraphicFramePr/>
          <p:nvPr/>
        </p:nvGraphicFramePr>
        <p:xfrm>
          <a:off x="127080" y="1052640"/>
          <a:ext cx="9004320" cy="5732280"/>
        </p:xfrm>
        <a:graphic>
          <a:graphicData uri="http://schemas.openxmlformats.org/presentationml/2006/ole">
            <p:oleObj progId="Excel.Sheet.12" r:id="rId1" spid="">
              <p:embed/>
              <p:pic>
                <p:nvPicPr>
                  <p:cNvPr id="112" name="" descr=""/>
                  <p:cNvPicPr/>
                  <p:nvPr/>
                </p:nvPicPr>
                <p:blipFill>
                  <a:blip r:embed="rId2"/>
                  <a:stretch/>
                </p:blipFill>
                <p:spPr>
                  <a:xfrm>
                    <a:off x="127080" y="1052640"/>
                    <a:ext cx="9004320" cy="5732280"/>
                  </a:xfrm>
                  <a:prstGeom prst="rect">
                    <a:avLst/>
                  </a:prstGeom>
                  <a:ln w="0">
                    <a:noFill/>
                  </a:ln>
                </p:spPr>
              </p:pic>
            </p:oleObj>
          </a:graphicData>
        </a:graphic>
      </p:graphicFrame>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02:55:38Z</dcterms:created>
  <dc:creator>weiyang</dc:creator>
  <dc:description/>
  <dc:language>en-US</dc:language>
  <cp:lastModifiedBy>pscho</cp:lastModifiedBy>
  <dcterms:modified xsi:type="dcterms:W3CDTF">2008-03-31T22:12:14Z</dcterms:modified>
  <cp:revision>44</cp:revision>
  <dc:subject/>
  <dc:title>An opinion from the longliners on the Conservation and Management of BET &amp; YFT</dc:title>
</cp:coreProperties>
</file>