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69FB-B2D8-4862-915A-5C6B94BF8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D02D-E1E7-4CE0-A61C-EA337675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6407-C566-4D64-ABE1-451B54507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76EE-3B86-45C4-9004-59317440A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D772-0263-4E4A-9C44-E9794191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C51C-492D-499C-B0D0-20A389A6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A08D-B3D6-4114-B92A-DC1A0404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BEBD-212C-4351-BBA2-7B1DDF58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876D-2931-4921-9C71-5A73550C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086D-F7BD-413D-8ACE-FF85D75D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ADDF-871A-411C-8A44-D47CB2CB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7383-C973-4DA2-8DD5-BA2FF837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C2E7-6399-49C7-A03F-1518F4746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Bookman Old Style"/>
              </a:rPr>
              <a:t>SUSTAINABLE TUNA FI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ookman Old Style"/>
              </a:rPr>
              <a:t>TROUBLE BRE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GOs are campaigning aggressively in the market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aling to retailers and consu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of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tification is a growth indust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least six certification organis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– a sure sign that their services are in de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markets are listening and acting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insbury &amp; Waitrose in the 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l Mart in the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ajor Brands have heard the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mers are being given negative messages about the health of tuna st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he only messages are negative many will stop bu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una market will dec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STAINABILITY IS A MAJOR ISSUE FOR THE NEXT DECAD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WE DON’T ACT NOW OTHERS WILL ACT FOR 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619280" y="760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ervation Measures We N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acity Limitation – well capacity or vesse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ive enforcement of the V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closure 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ating object closure, with 100% observer coverage WITH NO EXEM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asur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in the Commission Area to reg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to operate Commission VMS at all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me Thoughts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y fuel efficient way of catching – much ‘greener’ than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ats cannot simply switch back to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chools are no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less all FO’s are lifted, they will keep aggreg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re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some vessels a FAD closure would be the same as total clo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fuel over $1,000/tonne some boats won’t go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reduction of catch and supply to processors could be substant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we do not agree effective conservation measures soon, tuna markets may go into decline as consumers “turn off” tu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would have dire consequences for every one of the fishery’s particip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clining Re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CHES OF YELLOWFIN AND BIGEYE ARE DECLINING IN EVERY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7240" y="69840"/>
          <a:ext cx="901548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69840"/>
                    <a:ext cx="901548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4240" y="84240"/>
          <a:ext cx="901692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0" y="84240"/>
                    <a:ext cx="901692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440" y="303120"/>
          <a:ext cx="9139320" cy="60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303120"/>
                    <a:ext cx="9139320" cy="60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84240"/>
          <a:ext cx="9172440" cy="646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4240"/>
                    <a:ext cx="9172440" cy="64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ld Wid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GEYE &amp; YELLOWFIN ARE CONSIDERED TO BE EITHER FULLY OR OVER EXPLOITED IN EVERY OC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FMOS: POOR REPUT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AGREE LONG TERM CONSERVATION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ENFORCE WHAT MEASURES THEY DO EN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S TAKEN BY CONSENSUS – LOWEST COMMON DENOM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t NGOs Have Taken N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wildlife/environmental NGOs are focusing more attention on tuna fishe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cus not only on sustainabi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so on equity &amp; returns to resource ow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-catch and discard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0:08:06Z</dcterms:created>
  <dc:creator>Tri-Marine International Pte Ltd</dc:creator>
  <dc:description/>
  <dc:language>en-US</dc:language>
  <cp:lastModifiedBy>Tri-Marine International Pte Ltd</cp:lastModifiedBy>
  <dcterms:modified xsi:type="dcterms:W3CDTF">2008-03-31T01:22:24Z</dcterms:modified>
  <cp:revision>14</cp:revision>
  <dc:subject/>
  <dc:title>SUSTAINABLE TUNA FISHING</dc:title>
</cp:coreProperties>
</file>