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2DE7-EE58-47F5-A0C8-5FCA8E694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5850-C1D4-4874-825C-38457F2D0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47EC-E3F2-4FB7-87DB-F1740DDD6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4965-0A3C-4FE0-86FD-34F23974E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A5D9-9282-41EB-8A37-0CF8B5C65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9FEE-A9DC-4D9A-A0FA-57011DECF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2009-B230-4701-9AB0-23AEFBA75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8D70-27C4-4B3F-91F5-1DC61167A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08AB-1004-49CE-8F4B-7161AFF9F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3117-47E2-4CAB-A865-2A1FD36A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3B52-3B8D-4AF2-99DE-24BABEEF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F613-4023-4E5C-AE38-01C96919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50069-F2D1-4C41-BB11-9350DB582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shing Patterns of Fleets and EEZ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Hamp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eanic Fisheries Pro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ariat of the Pacific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se seine se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f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E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se seine vessel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line effort, bigeye catch, CP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f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E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19320" y="1339920"/>
            <a:ext cx="707544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19320" y="1336680"/>
            <a:ext cx="7065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E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19320" y="1339920"/>
            <a:ext cx="707544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E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19320" y="1336680"/>
            <a:ext cx="7065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47800" y="1266840"/>
            <a:ext cx="564840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opical Longline by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09840" y="1066680"/>
            <a:ext cx="612432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gline by E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31520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2:49:33Z</dcterms:created>
  <dc:creator>johnh</dc:creator>
  <dc:description/>
  <dc:language>en-US</dc:language>
  <cp:lastModifiedBy>johnh</cp:lastModifiedBy>
  <dcterms:modified xsi:type="dcterms:W3CDTF">2008-03-31T11:21:00Z</dcterms:modified>
  <cp:revision>17</cp:revision>
  <dc:subject/>
  <dc:title>Overview of Tuna Stock Status in the WCPFC Area</dc:title>
</cp:coreProperties>
</file>